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D7FD-08E5-483A-898F-A700B2C6B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10AA-818F-4CF5-86AC-BE8AF27FF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D7F2-B09E-4C97-A7E3-A5F3B6810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D368-EE39-43FD-88AB-D328363F30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4B25-CA82-4239-8C04-DF7362ECE7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26B9-A0B1-438C-A042-FEE9F8B77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3AAE-21EC-4FC7-A4AC-E37BE9DA4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CDB52-639F-4702-9A19-646BAB205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D7461-ECBA-4C63-852A-404481110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2825-6082-46A5-8D2A-7BC86DDCA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D300-D233-4464-A1EF-45338F462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E66FD-8ED2-48CB-A08F-A3C734AC3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C88E-320D-4891-A6B0-9134E1D75D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1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Wonderwa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IO Server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00240" y="2224080"/>
            <a:ext cx="6578640" cy="328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7883C-DB64-48C1-BEA0-924A76D8DB8C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选中“用户输入“部分的“模拟“前的复选框，点击“模拟“按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7520" y="2054160"/>
            <a:ext cx="5545080" cy="431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16200" y="3513240"/>
            <a:ext cx="1239840" cy="349200"/>
          </a:xfrm>
          <a:prstGeom prst="wedgeEllipseCallout">
            <a:avLst>
              <a:gd name="adj1" fmla="val -273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562E5-478F-40FF-9B74-2C73C12CD0AA}" type="slidenum">
              <a:t>10</a:t>
            </a:fld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标记名中选择定义的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可设定用户输入的最大值和最小值。点击“确定“按钮退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5120" y="2143080"/>
            <a:ext cx="6140520" cy="3557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86080" y="3436920"/>
            <a:ext cx="1333440" cy="349200"/>
          </a:xfrm>
          <a:prstGeom prst="wedgeEllipseCallout">
            <a:avLst>
              <a:gd name="adj1" fmla="val -2893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32120" y="4846680"/>
            <a:ext cx="1682640" cy="765000"/>
          </a:xfrm>
          <a:prstGeom prst="wedgeEllipseCallout">
            <a:avLst>
              <a:gd name="adj1" fmla="val -33300"/>
              <a:gd name="adj2" fmla="val -1162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AFC8-238F-4E57-BC8D-5E6D6363D860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2480" y="1262160"/>
            <a:ext cx="77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保存整个工程项目，然后点击右上角的“运行“标志，使程序运行起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6160" y="1724040"/>
            <a:ext cx="6883560" cy="4127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174080" y="1943280"/>
            <a:ext cx="942840" cy="349200"/>
          </a:xfrm>
          <a:prstGeom prst="wedgeEllipseCallout">
            <a:avLst>
              <a:gd name="adj1" fmla="val -17509"/>
              <a:gd name="adj2" fmla="val 1090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641B-1A47-4BBC-8205-4F3CC82C561D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2480" y="1262160"/>
            <a:ext cx="79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保存整个工程项目，然后点击右上角的“运行“标志，使程序运行起来，这时在窗体上可看到读取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71760" y="1947960"/>
            <a:ext cx="595764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29FD-F321-4518-B4B1-DA795443F0F9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2480" y="12621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点击文本，用户可以输入数值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回车后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中可以看到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也变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11120" y="2146320"/>
            <a:ext cx="664056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13289-80F4-44A1-8F25-F89697BC27D1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59000" y="2660760"/>
            <a:ext cx="44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CF45A-A791-4FF4-954E-93ABD561A24B}" type="slidenum">
              <a:t>15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点击按钮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增加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2395440"/>
            <a:ext cx="4816800" cy="29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75535-C38E-4E6F-A608-353C3D2D7D7C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2480" y="1224000"/>
            <a:ext cx="80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设置参数。设置完毕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即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06440" y="1555920"/>
            <a:ext cx="6486480" cy="380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16240" y="21002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28880" y="2719440"/>
            <a:ext cx="942840" cy="255600"/>
          </a:xfrm>
          <a:prstGeom prst="wedgeEllipseCallout">
            <a:avLst>
              <a:gd name="adj1" fmla="val -18856"/>
              <a:gd name="adj2" fmla="val 2825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27120" y="3011400"/>
            <a:ext cx="487440" cy="282600"/>
          </a:xfrm>
          <a:prstGeom prst="wedgeEllipseCallout">
            <a:avLst>
              <a:gd name="adj1" fmla="val -36319"/>
              <a:gd name="adj2" fmla="val 2078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65160" y="2452680"/>
            <a:ext cx="943200" cy="255600"/>
          </a:xfrm>
          <a:prstGeom prst="wedgeEllipseCallout">
            <a:avLst>
              <a:gd name="adj1" fmla="val -20203"/>
              <a:gd name="adj2" fmla="val 3881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3800" y="5313240"/>
            <a:ext cx="785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自定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名称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Node 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通过下拉式菜单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O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路径，此处为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.M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文件定义的设备名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所在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Us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21CCB-86D9-4635-9401-83545C113155}" type="slidenum">
              <a:t>3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2480" y="1262160"/>
            <a:ext cx="68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新建一个项目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程环境，点击左侧资源窗口中“配置“下的“访问名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3600" y="1913040"/>
            <a:ext cx="5953320" cy="474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57520" y="5033880"/>
            <a:ext cx="728640" cy="349200"/>
          </a:xfrm>
          <a:prstGeom prst="wedgeEllipseCallout">
            <a:avLst>
              <a:gd name="adj1" fmla="val -11439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4B4F7-19EE-4BF3-9036-4ECE97505120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在访问名窗口中点击“添加“按钮，增加一个访问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46440" y="2341440"/>
            <a:ext cx="4173480" cy="23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6667-00AD-4614-A3FD-31D2CC57EB51}" type="slidenum">
              <a:t>5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在添加访问名窗口设置参数。设置完毕点击“确定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57280" y="5478480"/>
            <a:ext cx="644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自定义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节点名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应用程序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题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在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 Topic Definition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窗口定义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93720" y="1649520"/>
            <a:ext cx="5145120" cy="37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2209-99C1-4222-B531-F1458AAAE734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左侧资源窗口中的“标记名字典“。新建变量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置完毕点击“保存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01600" y="1876320"/>
            <a:ext cx="6842160" cy="3413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35080" y="2743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90760" y="4699080"/>
            <a:ext cx="863640" cy="349200"/>
          </a:xfrm>
          <a:prstGeom prst="wedgeEllipseCallout">
            <a:avLst>
              <a:gd name="adj1" fmla="val -1746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35080" y="4965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24320" y="3022560"/>
            <a:ext cx="782640" cy="349200"/>
          </a:xfrm>
          <a:prstGeom prst="wedgeEllipseCallout">
            <a:avLst>
              <a:gd name="adj1" fmla="val -1409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1000" y="2717640"/>
            <a:ext cx="716040" cy="349560"/>
          </a:xfrm>
          <a:prstGeom prst="wedgeEllipseCallout">
            <a:avLst>
              <a:gd name="adj1" fmla="val -10754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3480" y="5288040"/>
            <a:ext cx="6710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定义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标记名：自定义，此处定义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型：设置变量的类型，由于要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连接，故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整型，选中读写单选项是为了可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选择定义的访问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项目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因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整型，所以加前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B679-2786-4476-BCE2-377E862151A7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变量定义说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73000" y="3720960"/>
            <a:ext cx="318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项目”说明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2239920"/>
            <a:ext cx="4229280" cy="2914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55720" y="1893960"/>
            <a:ext cx="4046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类型”说明，对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离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消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BD255-7A55-4F35-AB8B-65DA98146D26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点击左侧资源窗口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“，添加新窗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窗体上添加一个文本，打开其动画链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39960" y="1989000"/>
            <a:ext cx="5392800" cy="43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7A1A-B00B-4421-80BD-FC6A36F68529}" type="slidenum">
              <a:t>9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26:40Z</dcterms:modified>
  <cp:revision>377</cp:revision>
  <dc:subject/>
  <dc:title>Kein Folientitel</dc:title>
</cp:coreProperties>
</file>