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1BE7-6C6A-4F17-8FAF-FCAFC339A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79EE-A934-4101-ABB7-0F5838315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3444-1850-4049-A51C-95EBC259E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79144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19080" y="1571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3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79144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19080" y="3721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8428-89E2-414F-8BCD-A0F9DE08B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D807-E497-4CCE-B699-ABBA88018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3340-7071-48FC-82BF-6621208BD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A3FE-4991-468E-AD84-241E7A10E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2091-93F5-43B2-BDB3-844259AE1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3440" y="65556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ADBF-8A03-45AE-B778-B4940CD59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1939-147B-4448-BCAB-F26119EDB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6120" y="3721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2AB3-2CAA-4717-B325-A3BF86120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44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6120" y="1571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3440" y="3721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EA34-E52C-4C6F-840C-8DDAB7793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77480" y="6543720"/>
            <a:ext cx="437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D9C-0567-4965-961A-C6380EAAE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840" y="334800"/>
            <a:ext cx="1055520" cy="21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600" y="136440"/>
            <a:ext cx="5402520" cy="395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7621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6344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5769000" y="76320"/>
            <a:ext cx="322272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2480" y="12621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开始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有程序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Wonderwa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IO Server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。点击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00240" y="2224080"/>
            <a:ext cx="657864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A488-5652-4BA4-B914-58CFDE4F4685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、选中“用户输入“部分的“模拟“前的复选框，点击“模拟“按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7520" y="2054160"/>
            <a:ext cx="5545080" cy="4318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16200" y="3513240"/>
            <a:ext cx="1239840" cy="349200"/>
          </a:xfrm>
          <a:prstGeom prst="wedgeEllipseCallout">
            <a:avLst>
              <a:gd name="adj1" fmla="val -2733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3D26-19C3-486B-AF53-936466A2B382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一、标记名中选择定义的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可设定用户输入的最大值和最小值。点击“确定“按钮退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5120" y="2143080"/>
            <a:ext cx="6140520" cy="355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86080" y="3436920"/>
            <a:ext cx="1333440" cy="349200"/>
          </a:xfrm>
          <a:prstGeom prst="wedgeEllipseCallout">
            <a:avLst>
              <a:gd name="adj1" fmla="val -28930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846680"/>
            <a:ext cx="1682640" cy="765000"/>
          </a:xfrm>
          <a:prstGeom prst="wedgeEllipseCallout">
            <a:avLst>
              <a:gd name="adj1" fmla="val -33300"/>
              <a:gd name="adj2" fmla="val -1162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A718-C3D5-4CB8-93DB-E08B85AC5317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2480" y="126216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二、保存整个工程项目，然后点击右上角的“运行“标志，使程序运行起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6160" y="1724040"/>
            <a:ext cx="6883560" cy="412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74080" y="1943280"/>
            <a:ext cx="942840" cy="349200"/>
          </a:xfrm>
          <a:prstGeom prst="wedgeEllipseCallout">
            <a:avLst>
              <a:gd name="adj1" fmla="val -17509"/>
              <a:gd name="adj2" fmla="val 1090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C24A-7716-456A-80B6-3976D7962159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480" y="126216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三、保存整个工程项目，然后点击右上角的“运行“标志，使程序运行起来，这时在窗体上可看到读取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71760" y="1947960"/>
            <a:ext cx="595764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006D-214E-46D7-A1AD-E27DC2F5F6CA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2621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四、点击文本，用户可以输入数值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回车后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nCAT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中可以看到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值也变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11120" y="2146320"/>
            <a:ext cx="6640560" cy="39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497C-82F8-49C9-A05C-621C15EFDA91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9000" y="2660760"/>
            <a:ext cx="44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9e0"/>
                </a:solidFill>
                <a:latin typeface="Arial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27DD-809F-4C1C-8331-2742FBC59A35}" type="slidenum">
              <a:t>15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点击按钮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增加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2395440"/>
            <a:ext cx="4816800" cy="29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7006-DB37-4FFD-AA50-B5ABD072AAA2}" type="slidenum">
              <a:t>2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1224000"/>
            <a:ext cx="80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Link Topic Defin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，设置参数。设置完毕点击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钮即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6440" y="1555920"/>
            <a:ext cx="6486480" cy="380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16240" y="21002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8880" y="2719440"/>
            <a:ext cx="942840" cy="255600"/>
          </a:xfrm>
          <a:prstGeom prst="wedgeEllipseCallout">
            <a:avLst>
              <a:gd name="adj1" fmla="val -18856"/>
              <a:gd name="adj2" fmla="val 28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27120" y="3011400"/>
            <a:ext cx="487440" cy="282600"/>
          </a:xfrm>
          <a:prstGeom prst="wedgeEllipseCallout">
            <a:avLst>
              <a:gd name="adj1" fmla="val -36319"/>
              <a:gd name="adj2" fmla="val 2078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5160" y="2452680"/>
            <a:ext cx="943200" cy="255600"/>
          </a:xfrm>
          <a:prstGeom prst="wedgeEllipseCallout">
            <a:avLst>
              <a:gd name="adj1" fmla="val -20203"/>
              <a:gd name="adj2" fmla="val 3881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3800" y="5313240"/>
            <a:ext cx="785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自定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名称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Node Nam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通过下拉式菜单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inCAT 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.TwinCATOpcServe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O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填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径，此处为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.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其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OpcSvrCf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文件定义的设备名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发布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所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Us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12D43-0F9F-4866-83B4-2769C5DFC44C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2480" y="1262160"/>
            <a:ext cx="68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、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新建一个项目命名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Te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打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uch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程环境，点击左侧资源窗口中“配置“下的“访问名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3600" y="1913040"/>
            <a:ext cx="5953320" cy="4743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57520" y="5033880"/>
            <a:ext cx="728640" cy="349200"/>
          </a:xfrm>
          <a:prstGeom prst="wedgeEllipseCallout">
            <a:avLst>
              <a:gd name="adj1" fmla="val -11439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6808-0CDE-4FD5-BA9C-508477060914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、在访问名窗口中点击“添加“按钮，增加一个访问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46440" y="2341440"/>
            <a:ext cx="4173480" cy="23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B681-739B-43D0-BEF8-1FC8885D4F3F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、在添加访问名窗口设置参数。设置完毕点击“确定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57280" y="5478480"/>
            <a:ext cx="644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数设置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自定义，此处设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节点名：由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 Serve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本机，因此不必输入节点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应用程序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题名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hoff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即在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Link Topic Definition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窗口定义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称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93720" y="1649520"/>
            <a:ext cx="5145120" cy="37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FBB6-9C9F-4C30-A37C-58720F87BE96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、点击左侧资源窗口中的“标记名字典“。新建变量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置完毕点击“保存“按钮即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876320"/>
            <a:ext cx="6842160" cy="341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35080" y="274320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0760" y="4699080"/>
            <a:ext cx="863640" cy="349200"/>
          </a:xfrm>
          <a:prstGeom prst="wedgeEllipseCallout">
            <a:avLst>
              <a:gd name="adj1" fmla="val -17462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35080" y="4965840"/>
            <a:ext cx="554040" cy="349200"/>
          </a:xfrm>
          <a:prstGeom prst="wedgeEllipseCallout">
            <a:avLst>
              <a:gd name="adj1" fmla="val 71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24320" y="3022560"/>
            <a:ext cx="782640" cy="349200"/>
          </a:xfrm>
          <a:prstGeom prst="wedgeEllipseCallout">
            <a:avLst>
              <a:gd name="adj1" fmla="val -14097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1000" y="2717640"/>
            <a:ext cx="716040" cy="349560"/>
          </a:xfrm>
          <a:prstGeom prst="wedgeEllipseCallout">
            <a:avLst>
              <a:gd name="adj1" fmla="val -10754"/>
              <a:gd name="adj2" fmla="val 3409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3480" y="5288040"/>
            <a:ext cx="67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定义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记名：自定义，此处定义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型：设置变量的类型，由于要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连接，故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整型，选中读写单选项是为了可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访问名：选择定义的访问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C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项目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因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是整型，所以加前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88E8-5AE1-4D2E-B519-C2A3513F8F74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八、变量定义说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73000" y="3720960"/>
            <a:ext cx="318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项目”说明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加前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2239920"/>
            <a:ext cx="4229280" cy="2914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55720" y="1893960"/>
            <a:ext cx="404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定义中的“类型”说明，对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变量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尔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离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数型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实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符串变量，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消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1BF7-4A73-4221-AA7D-7C8CCB4810EB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440" y="6555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 Tes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1040" y="1566720"/>
            <a:ext cx="77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2480" y="1262160"/>
            <a:ext cx="68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九、点击左侧资源窗口中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“，添加新窗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在窗体上添加一个文本，打开其动画链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39960" y="1989000"/>
            <a:ext cx="539280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961B-84CA-4BC4-9E11-97F4450C86EB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3T11:36:04Z</dcterms:created>
  <dc:creator>Dokumentation</dc:creator>
  <dc:description/>
  <dc:language>en-US</dc:language>
  <cp:lastModifiedBy>wyz</cp:lastModifiedBy>
  <cp:lastPrinted>2000-02-15T10:00:28Z</cp:lastPrinted>
  <dcterms:modified xsi:type="dcterms:W3CDTF">2005-12-31T02:26:40Z</dcterms:modified>
  <cp:revision>377</cp:revision>
  <dc:subject/>
  <dc:title>Kein Folientitel</dc:title>
</cp:coreProperties>
</file>