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19D6-BBCF-4C7D-ADA7-F6D8A957C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9D0C-EC63-48BA-908E-F4B4133BA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0C74-7E4D-4515-8B27-191CC7A29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C133-3517-443E-8EE5-C0FCCD614E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87A6-4BDF-4A21-B379-AF938AB2BA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0BD5-A503-449F-AE2C-D0C87A306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B69C-0A47-48AC-AFAF-FCB3FFBDB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8152-FD24-4657-B81B-5693D19CB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84BE-DE32-4414-B83F-06D2F0B60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BF9A-9EE3-45EB-9F87-091CE9C2C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47C8-D96C-4AD5-BB3F-8971417C5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EA48-EDFD-4F62-A269-95656A6A8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7D2D-4D68-4F67-839C-4A61A21A9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 OPC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280" y="1995480"/>
            <a:ext cx="8029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295C-C6B1-460B-B361-B57761770F6D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3920" y="1857240"/>
            <a:ext cx="67597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55920" y="334008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548C-1AE1-4D2C-8C1F-45CEF070BA56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2480" y="126216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选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35000" y="1895400"/>
            <a:ext cx="6923160" cy="483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84240" y="2527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324180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481644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5120" y="5695920"/>
            <a:ext cx="404640" cy="349200"/>
          </a:xfrm>
          <a:prstGeom prst="wedgeEllipseCallout">
            <a:avLst>
              <a:gd name="adj1" fmla="val -6764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0440" y="4102200"/>
            <a:ext cx="2517840" cy="349200"/>
          </a:xfrm>
          <a:prstGeom prst="wedgeEllipseCallout">
            <a:avLst>
              <a:gd name="adj1" fmla="val -388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0253-50B2-4AC4-9A3A-EFA1B93D53DE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2480" y="12621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rou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自定一个名字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089080"/>
            <a:ext cx="7311960" cy="426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1640" y="3203640"/>
            <a:ext cx="392400" cy="349200"/>
          </a:xfrm>
          <a:prstGeom prst="wedgeEllipseCallout">
            <a:avLst>
              <a:gd name="adj1" fmla="val 90078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952800"/>
            <a:ext cx="392040" cy="349200"/>
          </a:xfrm>
          <a:prstGeom prst="wedgeEllipseCallout">
            <a:avLst>
              <a:gd name="adj1" fmla="val -143115"/>
              <a:gd name="adj2" fmla="val -150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920" y="5442120"/>
            <a:ext cx="392040" cy="349200"/>
          </a:xfrm>
          <a:prstGeom prst="wedgeEllipseCallout">
            <a:avLst>
              <a:gd name="adj1" fmla="val -7145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616120"/>
            <a:ext cx="419040" cy="349200"/>
          </a:xfrm>
          <a:prstGeom prst="wedgeEllipseCallout">
            <a:avLst>
              <a:gd name="adj1" fmla="val -1515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6360" y="3429000"/>
            <a:ext cx="1790640" cy="349200"/>
          </a:xfrm>
          <a:prstGeom prst="wedgeEllipseCallout">
            <a:avLst>
              <a:gd name="adj1" fmla="val -3431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4EF1-0148-472D-A184-A1C2066B08A1}" type="slidenum">
              <a:t>4</a:t>
            </a:fld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1262160"/>
            <a:ext cx="77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te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tem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右侧窗口中双击各个变量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8120" y="2168640"/>
            <a:ext cx="776268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46440" y="2679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5440" y="4452840"/>
            <a:ext cx="2220840" cy="1020960"/>
          </a:xfrm>
          <a:prstGeom prst="wedgeEllipseCallout">
            <a:avLst>
              <a:gd name="adj1" fmla="val -18620"/>
              <a:gd name="adj2" fmla="val -4486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1880" y="4527720"/>
            <a:ext cx="1333440" cy="1276200"/>
          </a:xfrm>
          <a:prstGeom prst="wedgeEllipseCallout">
            <a:avLst>
              <a:gd name="adj1" fmla="val 2263"/>
              <a:gd name="adj2" fmla="val -258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381480"/>
            <a:ext cx="379440" cy="349200"/>
          </a:xfrm>
          <a:prstGeom prst="wedgeEllipseCallout">
            <a:avLst>
              <a:gd name="adj1" fmla="val 70083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2320" y="5286240"/>
            <a:ext cx="392400" cy="349560"/>
          </a:xfrm>
          <a:prstGeom prst="wedgeEllipseCallout">
            <a:avLst>
              <a:gd name="adj1" fmla="val 165791"/>
              <a:gd name="adj2" fmla="val -13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0480" y="5564160"/>
            <a:ext cx="406440" cy="349200"/>
          </a:xfrm>
          <a:prstGeom prst="wedgeEllipseCallout">
            <a:avLst>
              <a:gd name="adj1" fmla="val -132814"/>
              <a:gd name="adj2" fmla="val -16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3480" y="3355920"/>
            <a:ext cx="406440" cy="349200"/>
          </a:xfrm>
          <a:prstGeom prst="wedgeEllipseCallout">
            <a:avLst>
              <a:gd name="adj1" fmla="val 59763"/>
              <a:gd name="adj2" fmla="val -227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B6F6-F77C-428A-B857-67EB32916E8E}" type="slidenum">
              <a:t>5</a:t>
            </a:fld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读取的变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1480" y="1852560"/>
            <a:ext cx="760104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1F23-5C2B-4FE0-ABB9-99C479B46FB5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660760"/>
            <a:ext cx="43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77AB-817F-42F8-AE32-E9EDCD6DF835}" type="slidenum">
              <a:t>7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09-08T02:33:57Z</dcterms:modified>
  <cp:revision>385</cp:revision>
  <dc:subject/>
  <dc:title>Kein Folientitel</dc:title>
</cp:coreProperties>
</file>