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8571-431E-4908-AEA8-A6CD62361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7FD3-582D-4195-AA66-1D53C2E88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28D3-85FF-4910-B4C7-E7F43AD66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E89B-EDC6-442D-9839-A0DCD4BBF4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19FA-ECBD-4762-9877-068C3EB494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4BE2-2ED8-434C-B74D-525B05557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99CF-993E-4382-877F-9535FA5E0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4829-E908-4C11-B5B9-647AB3E51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9E78-482A-47DC-B405-FC0984C11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3255D-76CD-4DF7-AB27-B1478CDBD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EE3E-5A86-4F4E-AFC2-E4E0587D6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FAF0-5443-4BB8-9A10-50FBAED86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8D0E-6C0F-4D3A-BF0B-7D9A50A3D7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C&#35828;&#26126;&#20070;.pdf" TargetMode="External"/><Relationship Id="rId2" Type="http://schemas.openxmlformats.org/officeDocument/2006/relationships/hyperlink" Target="file:///OPC&#35828;&#26126;&#20070;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79640" y="2181240"/>
            <a:ext cx="70866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 FOR PROCESS CONTR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作为一种标准的通讯协议，被广大客户接受，并采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本着开放的通讯理念，同样提供可作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设备通讯方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05600" y="1573200"/>
            <a:ext cx="1184400" cy="405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OPC</a:t>
            </a: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hlinkClick r:id="rId2"/>
              </a:rPr>
              <a:t>文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699B-FBAD-4EDE-91FB-ED521D55E242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126216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选中需要发布的变量，窗口下面的五个选项全部打实勾。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该窗体，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也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退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重新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重新保存程序。这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产生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类型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49480" y="2482920"/>
            <a:ext cx="4986360" cy="4241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86200" y="5246640"/>
            <a:ext cx="1360440" cy="920880"/>
          </a:xfrm>
          <a:prstGeom prst="wedgeRoundRectCallout">
            <a:avLst>
              <a:gd name="adj1" fmla="val -159453"/>
              <a:gd name="adj2" fmla="val 396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五个选项全部选中，注意全部打实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0240" y="5810400"/>
            <a:ext cx="309600" cy="930240"/>
          </a:xfrm>
          <a:prstGeom prst="wedgeEllipseCallout">
            <a:avLst>
              <a:gd name="adj1" fmla="val 12050"/>
              <a:gd name="adj2" fmla="val 1877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3657600"/>
            <a:ext cx="1952640" cy="1079640"/>
          </a:xfrm>
          <a:prstGeom prst="wedgeRoundRectCallout">
            <a:avLst>
              <a:gd name="adj1" fmla="val -75365"/>
              <a:gd name="adj2" fmla="val -5956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全部选中则发布所有变量。若只发布全局变量，则只需选中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lobal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E68FF-7F63-41E5-AAC8-B47E27CFDA89}" type="slidenum">
              <a:t>10</a:t>
            </a:fld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Choose Run-Time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6200" y="1693800"/>
            <a:ext cx="5924520" cy="50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8E93-7743-4F56-80CA-2C80C8F7B1FA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选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的系统，这里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80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46280" y="2104920"/>
            <a:ext cx="5025960" cy="31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1C19-E12F-48FB-A8A2-96F781B3F425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2480" y="12621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登录，然后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起来，这时可看到右下角的绿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9800" y="1855800"/>
            <a:ext cx="7724880" cy="497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36520" y="3157560"/>
            <a:ext cx="1011240" cy="652320"/>
          </a:xfrm>
          <a:prstGeom prst="wedgeRoundRectCallout">
            <a:avLst>
              <a:gd name="adj1" fmla="val 4629"/>
              <a:gd name="adj2" fmla="val -16459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25880" y="3100320"/>
            <a:ext cx="1119240" cy="733320"/>
          </a:xfrm>
          <a:prstGeom prst="wedgeRoundRectCallout">
            <a:avLst>
              <a:gd name="adj1" fmla="val -186597"/>
              <a:gd name="adj2" fmla="val -146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ogin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0" y="6442200"/>
            <a:ext cx="538200" cy="403200"/>
          </a:xfrm>
          <a:prstGeom prst="wedgeEllipseCallout">
            <a:avLst>
              <a:gd name="adj1" fmla="val -29648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685D-16D0-42DB-B27A-7E6BD211589C}" type="slidenum">
              <a:t>13</a:t>
            </a:fld>
          </a:p>
        </p:txBody>
      </p:sp>
    </p:spTree>
  </p:cSld>
  <p:transition spd="med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12621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装目录下的文件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TwinCAT\OPC\Server4\Samp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将文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拷贝一份到自定的文件夹中，例如放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所在的路径下，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。由于需要修改此文件，拷贝一份去修改以保持模板不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3440" y="2376360"/>
            <a:ext cx="57672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71840" y="4079880"/>
            <a:ext cx="1103400" cy="361800"/>
          </a:xfrm>
          <a:prstGeom prst="wedgeEllipseCallout">
            <a:avLst>
              <a:gd name="adj1" fmla="val -1078"/>
              <a:gd name="adj2" fmla="val -6138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CD2A-BA26-4B7F-8F95-E6D2358398F4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以记事本方式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修改此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7360" y="1609560"/>
            <a:ext cx="7829280" cy="5153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046160" y="4468680"/>
            <a:ext cx="6505560" cy="1729080"/>
          </a:xfrm>
          <a:prstGeom prst="wedgeRoundRectCallout">
            <a:avLst>
              <a:gd name="adj1" fmla="val -29356"/>
              <a:gd name="adj2" fmla="val 39347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95920" y="4513320"/>
            <a:ext cx="1522440" cy="1015920"/>
          </a:xfrm>
          <a:prstGeom prst="wedgeRoundRectCallout">
            <a:avLst>
              <a:gd name="adj1" fmla="val -48851"/>
              <a:gd name="adj2" fmla="val 221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由于只发布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的变量，所以这部分删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560" y="2894040"/>
            <a:ext cx="7043760" cy="1500120"/>
          </a:xfrm>
          <a:prstGeom prst="wedgeRoundRectCallout">
            <a:avLst>
              <a:gd name="adj1" fmla="val -29805"/>
              <a:gd name="adj2" fmla="val 50212"/>
              <a:gd name="adj3" fmla="val 16667"/>
            </a:avLst>
          </a:prstGeom>
          <a:noFill/>
          <a:ln w="9360">
            <a:solidFill>
              <a:srgbClr val="0b38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4640" y="2989440"/>
            <a:ext cx="1144440" cy="639720"/>
          </a:xfrm>
          <a:prstGeom prst="wedgeRoundRectCallout">
            <a:avLst>
              <a:gd name="adj1" fmla="val -29611"/>
              <a:gd name="adj2" fmla="val 415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对这部分进行修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DB9F-9590-4468-BA83-2139990C0BAB}" type="slidenum">
              <a:t>15</a:t>
            </a:fld>
          </a:p>
        </p:txBody>
      </p:sp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五、修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200" y="1822320"/>
            <a:ext cx="879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Plc1&lt;/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escription&gt;Plc Runtime system 1&lt;/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NetId&gt;0.0.0.0.0.0&lt;/AdsNet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dsPort&gt;801&lt;/AdsPor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--AutoCfg = 1: Check "AutoCfgSymFile" and parse Symbol-File of PLC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&gt;1&lt;/AutoCfg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AutoCfgSymFile&gt;C:\TcOpcDemo\Versions\4.0.0.1\SampleLocal\opctest.sym &lt;/AutoCfgSymFi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Devi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92960" y="4081320"/>
            <a:ext cx="598932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修改内容说明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可自定设备名，例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也可使用确省的名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设备的注释，不必修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设备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本机可使用确省的设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.0.0.0.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sPor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设备的端口号。不同设备的端口号不同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端口号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机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设备不同此处添加的内容不同，对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900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则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CfgSymFil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要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程序的路径以及名称，此处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\Intouch\plcOPC.sy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600" y="1816200"/>
            <a:ext cx="8377200" cy="20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200" y="4000680"/>
            <a:ext cx="8377200" cy="21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B0F8-E81B-4118-901E-A288086A0954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六、修改后要保存文件，修改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74800" y="1930320"/>
            <a:ext cx="7350120" cy="43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CA7F1-F0CE-426B-A1C7-30059BDC2526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280" y="126216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七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Configur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440" y="1928880"/>
            <a:ext cx="8115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4F4E-21C1-4D59-BC21-B4A172963D0C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7280" y="126216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八、点击左侧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修改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，打开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80960" y="2027160"/>
            <a:ext cx="7148520" cy="448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8960" y="4395960"/>
            <a:ext cx="1011240" cy="652320"/>
          </a:xfrm>
          <a:prstGeom prst="wedgeRoundRectCallout">
            <a:avLst>
              <a:gd name="adj1" fmla="val -75115"/>
              <a:gd name="adj2" fmla="val -121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PC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图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4140360"/>
            <a:ext cx="1374840" cy="855360"/>
          </a:xfrm>
          <a:prstGeom prst="wedgeRoundRectCallout">
            <a:avLst>
              <a:gd name="adj1" fmla="val -74365"/>
              <a:gd name="adj2" fmla="val 11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选中修改的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文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40320" y="4138560"/>
            <a:ext cx="1011240" cy="652680"/>
          </a:xfrm>
          <a:prstGeom prst="wedgeRoundRectCallout">
            <a:avLst>
              <a:gd name="adj1" fmla="val 57694"/>
              <a:gd name="adj2" fmla="val 15073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点击打开按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5945-5C43-4245-9086-C6977CDBADB7}" type="slidenum">
              <a:t>19</a:t>
            </a:fld>
          </a:p>
        </p:txBody>
      </p:sp>
    </p:spTree>
  </p:cSld>
  <p:transition spd="med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6120" y="2008080"/>
            <a:ext cx="616896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95560" y="2930400"/>
            <a:ext cx="2359080" cy="355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480" y="1262160"/>
            <a:ext cx="65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点击桌面右下角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99400" y="2770200"/>
            <a:ext cx="414360" cy="365040"/>
          </a:xfrm>
          <a:prstGeom prst="wedgeEllipseCallout">
            <a:avLst>
              <a:gd name="adj1" fmla="val -151148"/>
              <a:gd name="adj2" fmla="val -1543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05440" y="4114800"/>
            <a:ext cx="430200" cy="392040"/>
          </a:xfrm>
          <a:prstGeom prst="wedgeEllipseCallout">
            <a:avLst>
              <a:gd name="adj1" fmla="val -259592"/>
              <a:gd name="adj2" fmla="val -130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25AA-73B5-4982-89D1-ABABC7C72EA3}" type="slidenum">
              <a:t>2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280" y="1262160"/>
            <a:ext cx="801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九、弹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successfully activate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窗口，点击确定。至此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置发布完毕。现在可以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进行测试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6000" y="2847960"/>
            <a:ext cx="2772000" cy="11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8E03-CD34-407B-9314-75D6A5208C95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49440" y="2660760"/>
            <a:ext cx="43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9704-B013-4F23-8EF9-0E9FACBE5EC1}" type="slidenum">
              <a:t>21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5680" y="1824120"/>
            <a:ext cx="8426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073480" y="2769480"/>
            <a:ext cx="760680" cy="560520"/>
          </a:xfrm>
          <a:prstGeom prst="wedgeRoundRectCallout">
            <a:avLst>
              <a:gd name="adj1" fmla="val -117018"/>
              <a:gd name="adj2" fmla="val 79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激活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200" y="1276200"/>
            <a:ext cx="82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D32B-7DDC-499A-88CB-A82241A62BB4}" type="slidenum">
              <a:t>3</a:t>
            </a:fld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06800" y="5513400"/>
            <a:ext cx="794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5240" y="1751040"/>
            <a:ext cx="3687480" cy="118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1000" y="1305000"/>
            <a:ext cx="84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弹出的窗体上点击确定，则可看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nag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体右下角出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66760" y="3049560"/>
            <a:ext cx="6458040" cy="3556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45320" y="6283440"/>
            <a:ext cx="772920" cy="403200"/>
          </a:xfrm>
          <a:prstGeom prst="wedgeEllipseCallout">
            <a:avLst>
              <a:gd name="adj1" fmla="val -35833"/>
              <a:gd name="adj2" fmla="val 3661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7FFA-D058-4D4A-B263-D20CC8170A1F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4880" y="1903320"/>
            <a:ext cx="2109600" cy="3259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52480" y="1262160"/>
            <a:ext cx="7769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再次点击工具栏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菜单中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2080" y="2970360"/>
            <a:ext cx="1587600" cy="757080"/>
          </a:xfrm>
          <a:prstGeom prst="wedgeRoundRectCallout">
            <a:avLst>
              <a:gd name="adj1" fmla="val -72601"/>
              <a:gd name="adj2" fmla="val -5272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打开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winCAT PL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7971-4C99-480E-BDA8-F88CFEF3DFFD}" type="slidenum">
              <a:t>5</a:t>
            </a:fld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52480" y="1736640"/>
            <a:ext cx="7826400" cy="476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定义变量，编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4D57-DCAB-49A2-A77D-B60708227FCC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2480" y="1262160"/>
            <a:ext cx="7378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build 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保存程序，例如保存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\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，文件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2160" y="1981080"/>
            <a:ext cx="51465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E878-A8BC-41C8-911B-1C8A8B189742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2480" y="126216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菜单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06640" y="1604880"/>
            <a:ext cx="48196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EC33-A4B1-4700-AE50-597DB61408A9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2480" y="126216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中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configur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 symbol entrie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点击按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 symbol file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2400" y="1973160"/>
            <a:ext cx="7153200" cy="448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7200" y="2830680"/>
            <a:ext cx="739800" cy="649080"/>
          </a:xfrm>
          <a:prstGeom prst="wedgeRoundRectCallout">
            <a:avLst>
              <a:gd name="adj1" fmla="val -125749"/>
              <a:gd name="adj2" fmla="val -531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打勾选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91040" y="4140360"/>
            <a:ext cx="417600" cy="392040"/>
          </a:xfrm>
          <a:prstGeom prst="wedgeEllipseCallout">
            <a:avLst>
              <a:gd name="adj1" fmla="val -224523"/>
              <a:gd name="adj2" fmla="val -170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EF005-1364-4686-889B-85AD8B34C1DC}" type="slidenum">
              <a:t>9</a:t>
            </a:fld>
          </a:p>
        </p:txBody>
      </p:sp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30:59Z</dcterms:modified>
  <cp:revision>363</cp:revision>
  <dc:subject/>
  <dc:title>Kein Folientitel</dc:title>
</cp:coreProperties>
</file>