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1D02A-E39B-4D42-88CA-EA31DA999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56EF-D4F4-4F12-90A8-5C8651C51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64DC-CFCE-4631-B5A0-5E8D17BDE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80FA-3798-4FD8-B1F8-78D2B9BC93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7A2F-2BD3-47C7-8818-EBAC0C4277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32E11-F5A8-4F15-9E7E-D7BF527EE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B765F-F52A-47B3-9926-3F13713C5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86C84-0966-43C8-A99D-A8C87EEDF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1BB2C-5281-403C-8CA5-2F44901AC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A4C6C-8D34-4276-8C5B-F1D77EEB6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9EBD-B5CF-4268-912B-18C7201FE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30DE5-5655-4494-9009-041A2219A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6107-610C-4B2A-B5CD-E2541A891A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4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Syst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winCAT O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 Test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 OPC 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7280" y="1995480"/>
            <a:ext cx="80294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876A-11B6-497E-A94A-BE78C4DBBC37}" type="slidenum">
              <a:t>1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Log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23920" y="1857240"/>
            <a:ext cx="6759720" cy="4160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55920" y="334008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5AD34-7BD2-4072-8AF0-1184248D93D8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2480" y="1262160"/>
            <a:ext cx="76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erver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在弹出的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选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35000" y="1895400"/>
            <a:ext cx="6923160" cy="4832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84240" y="2527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6680" y="324180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7080" y="4816440"/>
            <a:ext cx="392040" cy="349200"/>
          </a:xfrm>
          <a:prstGeom prst="wedgeEllipseCallout">
            <a:avLst>
              <a:gd name="adj1" fmla="val 69435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5120" y="5695920"/>
            <a:ext cx="404640" cy="349200"/>
          </a:xfrm>
          <a:prstGeom prst="wedgeEllipseCallout">
            <a:avLst>
              <a:gd name="adj1" fmla="val -6764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00440" y="4102200"/>
            <a:ext cx="2517840" cy="349200"/>
          </a:xfrm>
          <a:prstGeom prst="wedgeEllipseCallout">
            <a:avLst>
              <a:gd name="adj1" fmla="val -388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2FDD7-9CD1-4947-82F4-4BF613DC0F1D}" type="slidenum">
              <a:t>3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2480" y="12621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Group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Properti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自定一个名字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点击“确定”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2089080"/>
            <a:ext cx="7311960" cy="4265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1640" y="3203640"/>
            <a:ext cx="392400" cy="349200"/>
          </a:xfrm>
          <a:prstGeom prst="wedgeEllipseCallout">
            <a:avLst>
              <a:gd name="adj1" fmla="val 90078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952800"/>
            <a:ext cx="392040" cy="349200"/>
          </a:xfrm>
          <a:prstGeom prst="wedgeEllipseCallout">
            <a:avLst>
              <a:gd name="adj1" fmla="val -143115"/>
              <a:gd name="adj2" fmla="val -150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11920" y="5442120"/>
            <a:ext cx="392040" cy="349200"/>
          </a:xfrm>
          <a:prstGeom prst="wedgeEllipseCallout">
            <a:avLst>
              <a:gd name="adj1" fmla="val -71458"/>
              <a:gd name="adj2" fmla="val 16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5880" y="2616120"/>
            <a:ext cx="419040" cy="349200"/>
          </a:xfrm>
          <a:prstGeom prst="wedgeEllipseCallout">
            <a:avLst>
              <a:gd name="adj1" fmla="val -1515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46360" y="3429000"/>
            <a:ext cx="1790640" cy="349200"/>
          </a:xfrm>
          <a:prstGeom prst="wedgeEllipseCallout">
            <a:avLst>
              <a:gd name="adj1" fmla="val -3431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8356F-9D7C-405D-8841-8BC1ED4E95EB}" type="slidenum">
              <a:t>4</a:t>
            </a:fld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2480" y="1262160"/>
            <a:ext cx="77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点击工具栏中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te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标，弹出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tem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先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选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右侧窗口中双击各个变量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，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8120" y="2168640"/>
            <a:ext cx="7762680" cy="4533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46440" y="2679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5440" y="4452840"/>
            <a:ext cx="2220840" cy="1020960"/>
          </a:xfrm>
          <a:prstGeom prst="wedgeEllipseCallout">
            <a:avLst>
              <a:gd name="adj1" fmla="val -18620"/>
              <a:gd name="adj2" fmla="val -44865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1880" y="4527720"/>
            <a:ext cx="1333440" cy="1276200"/>
          </a:xfrm>
          <a:prstGeom prst="wedgeEllipseCallout">
            <a:avLst>
              <a:gd name="adj1" fmla="val 2263"/>
              <a:gd name="adj2" fmla="val -2587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3381480"/>
            <a:ext cx="379440" cy="349200"/>
          </a:xfrm>
          <a:prstGeom prst="wedgeEllipseCallout">
            <a:avLst>
              <a:gd name="adj1" fmla="val 70083"/>
              <a:gd name="adj2" fmla="val -1618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2320" y="5286240"/>
            <a:ext cx="392400" cy="349560"/>
          </a:xfrm>
          <a:prstGeom prst="wedgeEllipseCallout">
            <a:avLst>
              <a:gd name="adj1" fmla="val 165791"/>
              <a:gd name="adj2" fmla="val -134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10480" y="5564160"/>
            <a:ext cx="406440" cy="349200"/>
          </a:xfrm>
          <a:prstGeom prst="wedgeEllipseCallout">
            <a:avLst>
              <a:gd name="adj1" fmla="val -132814"/>
              <a:gd name="adj2" fmla="val -169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13480" y="3355920"/>
            <a:ext cx="406440" cy="349200"/>
          </a:xfrm>
          <a:prstGeom prst="wedgeEllipseCallout">
            <a:avLst>
              <a:gd name="adj1" fmla="val 59763"/>
              <a:gd name="adj2" fmla="val -227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580F6-84B6-404B-8F5F-7C9BF49AF4DA}" type="slidenum">
              <a:t>5</a:t>
            </a:fld>
          </a:p>
        </p:txBody>
      </p:sp>
    </p:spTree>
  </p:cSld>
  <p:transition spd="med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2480" y="126216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读取的变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71480" y="1852560"/>
            <a:ext cx="7601040" cy="456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57CE-36A7-4E27-9CDF-11086CB9135D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2660760"/>
            <a:ext cx="433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E865-808B-40AE-AD58-0C633E0C2D90}" type="slidenum">
              <a:t>7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09-08T02:33:57Z</dcterms:modified>
  <cp:revision>385</cp:revision>
  <dc:subject/>
  <dc:title>Kein Folientitel</dc:title>
</cp:coreProperties>
</file>