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008F-1326-45FE-9D85-CC2794BB8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A03A-22ED-4A11-A8CE-ABFF93273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7DDA-CD19-49A2-A56B-1EC8208C9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3460-FA43-4196-A56E-9EB09639E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3ED0-D03B-4483-9FE3-90462D067C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F8DB-C1EA-468C-B1BF-B07C44EA4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E9AA-DC61-4D99-995B-FF94F40D7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235F-6AF8-492D-849E-CC80B9630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4A9E-1A16-4AA2-B8C0-CAD6B19FC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0FFB-8404-4C53-BE5F-A492F9470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66EB-3B00-4314-B099-21130CD73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B3A1-52F1-46AA-AEA7-9950DBFF6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4181-9E50-4DBC-806A-ACD853CD45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Wonderwa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IO Serv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0240" y="2224080"/>
            <a:ext cx="657864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E1D5-C999-4418-BDF2-B5F87053DDFC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选中“用户输入“部分的“模拟“前的复选框，点击“模拟“按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7520" y="2054160"/>
            <a:ext cx="5545080" cy="43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6200" y="3513240"/>
            <a:ext cx="1239840" cy="349200"/>
          </a:xfrm>
          <a:prstGeom prst="wedgeEllipseCallout">
            <a:avLst>
              <a:gd name="adj1" fmla="val -273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BB17-9CEE-4800-BA72-48280B5F5CBC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标记名中选择定义的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设定用户输入的最大值和最小值。点击“确定“按钮退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5120" y="2143080"/>
            <a:ext cx="6140520" cy="355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6080" y="3436920"/>
            <a:ext cx="1333440" cy="349200"/>
          </a:xfrm>
          <a:prstGeom prst="wedgeEllipseCallout">
            <a:avLst>
              <a:gd name="adj1" fmla="val -2893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846680"/>
            <a:ext cx="1682640" cy="765000"/>
          </a:xfrm>
          <a:prstGeom prst="wedgeEllipseCallout">
            <a:avLst>
              <a:gd name="adj1" fmla="val -33300"/>
              <a:gd name="adj2" fmla="val -116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32E7-9DCE-47D2-B091-4CA2AC483419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2480" y="126216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保存整个工程项目，然后点击右上角的“运行“标志，使程序运行起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6160" y="1724040"/>
            <a:ext cx="688356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74080" y="1943280"/>
            <a:ext cx="942840" cy="349200"/>
          </a:xfrm>
          <a:prstGeom prst="wedgeEllipseCallout">
            <a:avLst>
              <a:gd name="adj1" fmla="val -17509"/>
              <a:gd name="adj2" fmla="val 1090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87D4-3828-434C-A0EE-51CBA0C96E8B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480" y="126216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保存整个工程项目，然后点击右上角的“运行“标志，使程序运行起来，这时在窗体上可看到读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71760" y="1947960"/>
            <a:ext cx="595764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9C69-E2A9-4FCA-BB71-1E3285708F98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262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点击文本，用户可以输入数值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回车后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中可以看到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也变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11120" y="2146320"/>
            <a:ext cx="66405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0861-A368-49A2-9688-E6373661D4B0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9000" y="2660760"/>
            <a:ext cx="44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783A-F0CB-4891-BEB9-3D7898667D0F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点击按钮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增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395440"/>
            <a:ext cx="4816800" cy="29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1EB4-2091-47DB-A957-279EE555210B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1224000"/>
            <a:ext cx="80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设置参数。设置完毕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6440" y="1555920"/>
            <a:ext cx="6486480" cy="38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16240" y="21002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8880" y="2719440"/>
            <a:ext cx="942840" cy="255600"/>
          </a:xfrm>
          <a:prstGeom prst="wedgeEllipseCallout">
            <a:avLst>
              <a:gd name="adj1" fmla="val -18856"/>
              <a:gd name="adj2" fmla="val 28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3011400"/>
            <a:ext cx="487440" cy="282600"/>
          </a:xfrm>
          <a:prstGeom prst="wedgeEllipseCallout">
            <a:avLst>
              <a:gd name="adj1" fmla="val -36319"/>
              <a:gd name="adj2" fmla="val 20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5160" y="2452680"/>
            <a:ext cx="943200" cy="255600"/>
          </a:xfrm>
          <a:prstGeom prst="wedgeEllipseCallout">
            <a:avLst>
              <a:gd name="adj1" fmla="val -20203"/>
              <a:gd name="adj2" fmla="val 3881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3800" y="5313240"/>
            <a:ext cx="785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自定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名称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Node 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通过下拉式菜单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O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径，此处为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.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文件定义的设备名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所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D02A-95F1-401B-95BA-208D403443FB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2480" y="126216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新建一个项目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环境，点击左侧资源窗口中“配置“下的“访问名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5953320" cy="474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7520" y="5033880"/>
            <a:ext cx="728640" cy="349200"/>
          </a:xfrm>
          <a:prstGeom prst="wedgeEllipseCallout">
            <a:avLst>
              <a:gd name="adj1" fmla="val -11439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FE26-4DF3-4E01-82F6-B2EF7D076DE9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在访问名窗口中点击“添加“按钮，增加一个访问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6440" y="2341440"/>
            <a:ext cx="4173480" cy="23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74C1-EF7C-4D89-954D-28129FA0DD0F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在添加访问名窗口设置参数。设置完毕点击“确定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5478480"/>
            <a:ext cx="644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自定义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节点名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应用程序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题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在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 Topic Definition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窗口定义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93720" y="1649520"/>
            <a:ext cx="514512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1924-BB89-482B-BEF2-05D468109F74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左侧资源窗口中的“标记名字典“。新建变量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置完毕点击“保存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876320"/>
            <a:ext cx="6842160" cy="341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35080" y="2743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0760" y="4699080"/>
            <a:ext cx="863640" cy="349200"/>
          </a:xfrm>
          <a:prstGeom prst="wedgeEllipseCallout">
            <a:avLst>
              <a:gd name="adj1" fmla="val -1746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5080" y="4965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320" y="3022560"/>
            <a:ext cx="782640" cy="349200"/>
          </a:xfrm>
          <a:prstGeom prst="wedgeEllipseCallout">
            <a:avLst>
              <a:gd name="adj1" fmla="val -1409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1000" y="2717640"/>
            <a:ext cx="716040" cy="349560"/>
          </a:xfrm>
          <a:prstGeom prst="wedgeEllipseCallout">
            <a:avLst>
              <a:gd name="adj1" fmla="val -10754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480" y="5288040"/>
            <a:ext cx="67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定义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记名：自定义，此处定义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型：设置变量的类型，由于要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连接，故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型，选中读写单选项是为了可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选择定义的访问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项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整型，所以加前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421E-EEBC-436D-91D4-A10D9449F011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变量定义说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3000" y="3720960"/>
            <a:ext cx="318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项目”说明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39920"/>
            <a:ext cx="4229280" cy="29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5720" y="1893960"/>
            <a:ext cx="404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类型”说明，对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离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2EAF-4D44-4F57-8D29-7E72AAF260FF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点击左侧资源窗口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“，添加新窗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窗体上添加一个文本，打开其动画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9960" y="1989000"/>
            <a:ext cx="539280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5292-1A35-4B37-A8A1-87B6543BB9A7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26:40Z</dcterms:modified>
  <cp:revision>377</cp:revision>
  <dc:subject/>
  <dc:title>Kein Folientitel</dc:title>
</cp:coreProperties>
</file>