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CF797-3659-4641-9318-136B1D0365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C5373-6C35-4A36-825D-F8708BF3BE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8DB05-8EFD-4CCF-BE74-26527CCF36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791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1908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3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791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1908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AB1A0-2335-42BB-92B7-C232F05580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6BDB2-1FF7-4578-9654-1C46CCD68A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3BEFA-501F-46C9-81EF-7917F96335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F251C-BD49-451F-B15C-3CEFDC3FF1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262D0-E234-4DE0-8670-C7C98FE4AD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3440" y="655560"/>
            <a:ext cx="77724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C62F6-FEE7-4E6B-A787-35A2270840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DEADA-0E9A-44F5-A27E-29B3E4F7A7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3DBD0-38F2-4FFF-BEF1-47DB69BCA6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BF891-32A3-4C53-9418-C04A8C4050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77480" y="6543720"/>
            <a:ext cx="437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19AE-911C-4186-B6B7-CE12F4D815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9840" y="334800"/>
            <a:ext cx="1055520" cy="21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2600" y="136440"/>
            <a:ext cx="5402520" cy="395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04920" y="7621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5769000" y="76320"/>
            <a:ext cx="322272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52480" y="1262160"/>
            <a:ext cx="71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、开始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有程序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Wonderwar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IO Server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OPCLin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Lin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。点击菜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opic Defin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00240" y="2224080"/>
            <a:ext cx="6578640" cy="328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84307-FE8A-46FF-BA5B-4B3DE83A678D}" type="slidenum">
              <a:t>1</a:t>
            </a:fld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、选中“用户输入“部分的“模拟“前的复选框，点击“模拟“按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57520" y="2054160"/>
            <a:ext cx="5545080" cy="4318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16200" y="3513240"/>
            <a:ext cx="1239840" cy="349200"/>
          </a:xfrm>
          <a:prstGeom prst="wedgeEllipseCallout">
            <a:avLst>
              <a:gd name="adj1" fmla="val -2733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3E2E4-08D1-440A-921E-A34D909F8B5D}" type="slidenum">
              <a:t>10</a:t>
            </a:fld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一、标记名中选择定义的变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可设定用户输入的最大值和最小值。点击“确定“按钮退出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65120" y="2143080"/>
            <a:ext cx="6140520" cy="3557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486080" y="3436920"/>
            <a:ext cx="1333440" cy="349200"/>
          </a:xfrm>
          <a:prstGeom prst="wedgeEllipseCallout">
            <a:avLst>
              <a:gd name="adj1" fmla="val -28930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32120" y="4846680"/>
            <a:ext cx="1682640" cy="765000"/>
          </a:xfrm>
          <a:prstGeom prst="wedgeEllipseCallout">
            <a:avLst>
              <a:gd name="adj1" fmla="val -33300"/>
              <a:gd name="adj2" fmla="val -1162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80FAA-D170-41DD-B9A4-4E2F26FDEBBC}" type="slidenum">
              <a:t>11</a:t>
            </a:fld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2480" y="1262160"/>
            <a:ext cx="77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二、保存整个工程项目，然后点击右上角的“运行“标志，使程序运行起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6160" y="1724040"/>
            <a:ext cx="6883560" cy="4127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174080" y="1943280"/>
            <a:ext cx="942840" cy="349200"/>
          </a:xfrm>
          <a:prstGeom prst="wedgeEllipseCallout">
            <a:avLst>
              <a:gd name="adj1" fmla="val -17509"/>
              <a:gd name="adj2" fmla="val 1090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66247-5D53-47B9-BAE4-4F48119B2383}" type="slidenum">
              <a:t>12</a:t>
            </a:fld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52480" y="1262160"/>
            <a:ext cx="791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三、保存整个工程项目，然后点击右上角的“运行“标志，使程序运行起来，这时在窗体上可看到读取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变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71760" y="1947960"/>
            <a:ext cx="5957640" cy="466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C6218-9A73-41BC-912F-45224B4EF98E}" type="slidenum">
              <a:t>13</a:t>
            </a:fld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52480" y="1262160"/>
            <a:ext cx="779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四、点击文本，用户可以输入数值，例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回车后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中可以看到变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值也变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11120" y="2146320"/>
            <a:ext cx="6640560" cy="39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1F804-6B1F-4D2C-BEB2-D577C872C503}" type="slidenum">
              <a:t>14</a:t>
            </a:fld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59000" y="2660760"/>
            <a:ext cx="4443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9e0"/>
                </a:solidFill>
                <a:latin typeface="Arial"/>
              </a:rPr>
              <a:t>THANK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8F34A-DEF6-4342-9A11-F9E3FC4FC525}" type="slidenum">
              <a:t>15</a:t>
            </a:fld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、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ic Defin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点击按钮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增加一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Link Topi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8000" y="2395440"/>
            <a:ext cx="4816800" cy="291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12405-B501-442C-B0AF-4612FA26BF11}" type="slidenum">
              <a:t>2</a:t>
            </a:fld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52480" y="1224000"/>
            <a:ext cx="80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、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Link Topic Defin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，设置参数。设置完毕点击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即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06440" y="1555920"/>
            <a:ext cx="6486480" cy="380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316240" y="210024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28880" y="2719440"/>
            <a:ext cx="942840" cy="255600"/>
          </a:xfrm>
          <a:prstGeom prst="wedgeEllipseCallout">
            <a:avLst>
              <a:gd name="adj1" fmla="val -18856"/>
              <a:gd name="adj2" fmla="val 2825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27120" y="3011400"/>
            <a:ext cx="487440" cy="282600"/>
          </a:xfrm>
          <a:prstGeom prst="wedgeEllipseCallout">
            <a:avLst>
              <a:gd name="adj1" fmla="val -36319"/>
              <a:gd name="adj2" fmla="val 2078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65160" y="2452680"/>
            <a:ext cx="943200" cy="255600"/>
          </a:xfrm>
          <a:prstGeom prst="wedgeEllipseCallout">
            <a:avLst>
              <a:gd name="adj1" fmla="val -20203"/>
              <a:gd name="adj2" fmla="val 3881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3800" y="5313240"/>
            <a:ext cx="7851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数设置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Topi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自定义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pi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的名称，此处设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ckh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Node Nam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由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在本机，因此不必输入节点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通过下拉式菜单选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ckhoff.TwinCATOpcServer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OP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填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路径，此处为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.MAI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其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文件定义的设备名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是发布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所在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Us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名称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B509C-4100-4757-88E8-376EDDB6278A}" type="slidenum">
              <a:t>3</a:t>
            </a:fld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52480" y="1262160"/>
            <a:ext cx="68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、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新建一个项目命名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Tes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ouch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程环境，点击左侧资源窗口中“配置“下的“访问名“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63600" y="1913040"/>
            <a:ext cx="5953320" cy="4743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57520" y="5033880"/>
            <a:ext cx="728640" cy="349200"/>
          </a:xfrm>
          <a:prstGeom prst="wedgeEllipseCallout">
            <a:avLst>
              <a:gd name="adj1" fmla="val -11439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E6B92-A336-4813-BE9D-AE5401A712A9}" type="slidenum">
              <a:t>4</a:t>
            </a:fld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、在访问名窗口中点击“添加“按钮，增加一个访问名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846440" y="2341440"/>
            <a:ext cx="4173480" cy="238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A6F34-A0E8-48DF-80EB-A647F740AA0F}" type="slidenum">
              <a:t>5</a:t>
            </a:fld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、在添加访问名窗口设置参数。设置完毕点击“确定“按钮即可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57280" y="5478480"/>
            <a:ext cx="644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数设置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访问名：自定义，此处设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节点名：由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在本机，因此不必输入节点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应用程序名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主题名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ckhoff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即在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Link Topic Definition“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窗口定义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pi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名称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93720" y="1649520"/>
            <a:ext cx="5145120" cy="37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BFAE0-0ECA-458E-90D9-6C62825720F9}" type="slidenum">
              <a:t>6</a:t>
            </a:fld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七、点击左侧资源窗口中的“标记名字典“。新建变量例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设置完毕点击“保存“按钮即可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01600" y="1876320"/>
            <a:ext cx="6842160" cy="3413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35080" y="274320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90760" y="4699080"/>
            <a:ext cx="863640" cy="349200"/>
          </a:xfrm>
          <a:prstGeom prst="wedgeEllipseCallout">
            <a:avLst>
              <a:gd name="adj1" fmla="val -17462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35080" y="496584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24320" y="3022560"/>
            <a:ext cx="782640" cy="349200"/>
          </a:xfrm>
          <a:prstGeom prst="wedgeEllipseCallout">
            <a:avLst>
              <a:gd name="adj1" fmla="val -1409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1000" y="2717640"/>
            <a:ext cx="716040" cy="349560"/>
          </a:xfrm>
          <a:prstGeom prst="wedgeEllipseCallout">
            <a:avLst>
              <a:gd name="adj1" fmla="val -10754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03480" y="5288040"/>
            <a:ext cx="67100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定义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标记名：自定义，此处定义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类型：设置变量的类型，由于要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连接，故选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整型，选中读写单选项是为了可读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访问名：选择定义的访问名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项目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因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是整型，所以加前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E6D03-AC6F-402C-8084-1FFEFFEE35E5}" type="slidenum">
              <a:t>7</a:t>
            </a:fld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八、变量定义说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73000" y="3720960"/>
            <a:ext cx="3186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变量定义中的“项目”说明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整型变量，加前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布尔型变量，加前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实数型变量，加前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符串变量，加前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67080" y="2239920"/>
            <a:ext cx="4229280" cy="2914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55720" y="1893960"/>
            <a:ext cx="4046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变量定义中的“类型”说明，对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变量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整型变量，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整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布尔型变量，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离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实数型变量，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实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符串变量，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消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9AFF9-F395-4B14-BCDD-4979D895BE1F}" type="slidenum">
              <a:t>8</a:t>
            </a:fld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九、点击左侧资源窗口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“，添加新窗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在窗体上添加一个文本，打开其动画链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839960" y="1989000"/>
            <a:ext cx="5392800" cy="439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4C2C0-9296-4596-BA26-821B843B3255}" type="slidenum">
              <a:t>9</a:t>
            </a:fld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3T11:36:04Z</dcterms:created>
  <dc:creator>Dokumentation</dc:creator>
  <dc:description/>
  <dc:language>en-US</dc:language>
  <cp:lastModifiedBy>wyz</cp:lastModifiedBy>
  <cp:lastPrinted>2000-02-15T10:00:28Z</cp:lastPrinted>
  <dcterms:modified xsi:type="dcterms:W3CDTF">2005-12-31T02:26:40Z</dcterms:modified>
  <cp:revision>377</cp:revision>
  <dc:subject/>
  <dc:title>Kein Folientitel</dc:title>
</cp:coreProperties>
</file>