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21B5-F164-4866-A1F1-39935C8DF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1051-51F2-4EE1-BDDF-57BA8D157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76AD4-DA4F-488C-AC70-D171E48C3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4958-AFFE-4756-BB71-0B0BD5B86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8467-008B-40E9-B4DD-80F7E2E82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554B9-D3C7-4299-877C-FEE0194F1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94AB-C668-4876-AA39-107549BD9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6423-2BD2-4ABE-A6F9-888A6D41A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C2B4-DDCD-4CAE-8A0B-24C555CF5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556B-56C4-44BD-A8EF-97F56CADF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9BC2-B2C5-4105-B31E-63EA48535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2ACF-2CB5-41E5-BCF1-4A1A31427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A233-8612-483A-87CC-81CD50DDB4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C&#35828;&#26126;&#20070;.pdf" TargetMode="External"/><Relationship Id="rId2" Type="http://schemas.openxmlformats.org/officeDocument/2006/relationships/hyperlink" Target="file:///OPC&#35828;&#26126;&#20070;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2181240"/>
            <a:ext cx="70866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 FOR PROCESS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作为一种标准的通讯协议，被广大客户接受，并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本着开放的通讯理念，同样提供可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设备通讯方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05600" y="1573200"/>
            <a:ext cx="1184400" cy="40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OPC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629F-2FB2-4229-A333-41C11AD1A0BF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12621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选中需要发布的变量，窗口下面的五个选项全部打实勾。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该窗体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也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重新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重新保存程序。这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产生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49480" y="2482920"/>
            <a:ext cx="4986360" cy="4241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5246640"/>
            <a:ext cx="1360440" cy="920880"/>
          </a:xfrm>
          <a:prstGeom prst="wedgeRoundRectCallout">
            <a:avLst>
              <a:gd name="adj1" fmla="val -159453"/>
              <a:gd name="adj2" fmla="val 396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五个选项全部选中，注意全部打实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0240" y="5810400"/>
            <a:ext cx="309600" cy="930240"/>
          </a:xfrm>
          <a:prstGeom prst="wedgeEllipseCallout">
            <a:avLst>
              <a:gd name="adj1" fmla="val 12050"/>
              <a:gd name="adj2" fmla="val 1877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657600"/>
            <a:ext cx="1952640" cy="1079640"/>
          </a:xfrm>
          <a:prstGeom prst="wedgeRoundRectCallout">
            <a:avLst>
              <a:gd name="adj1" fmla="val -75365"/>
              <a:gd name="adj2" fmla="val -5956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全部选中则发布所有变量。若只发布全局变量，则只需选中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ob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69BF-DECE-4F81-BBD7-CAFFAF620BE5}" type="slidenum">
              <a:t>10</a:t>
            </a:fld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Choose Run-Time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6200" y="1693800"/>
            <a:ext cx="5924520" cy="50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B9C9C-C61E-424F-A3AD-AABA6D98EC8E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选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的系统，这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80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6280" y="2104920"/>
            <a:ext cx="50259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9A46-F232-45FC-BEDB-098A1AD45964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登录，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起来，这时可看到右下角的绿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9800" y="1855800"/>
            <a:ext cx="772488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36520" y="3157560"/>
            <a:ext cx="1011240" cy="652320"/>
          </a:xfrm>
          <a:prstGeom prst="wedgeRoundRectCallout">
            <a:avLst>
              <a:gd name="adj1" fmla="val 4629"/>
              <a:gd name="adj2" fmla="val -1645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880" y="3100320"/>
            <a:ext cx="1119240" cy="733320"/>
          </a:xfrm>
          <a:prstGeom prst="wedgeRoundRectCallout">
            <a:avLst>
              <a:gd name="adj1" fmla="val -186597"/>
              <a:gd name="adj2" fmla="val -146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0" y="6442200"/>
            <a:ext cx="538200" cy="403200"/>
          </a:xfrm>
          <a:prstGeom prst="wedgeEllipseCallout">
            <a:avLst>
              <a:gd name="adj1" fmla="val -29648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C2BB-36A1-4D7A-B724-67A9B2DB1315}" type="slidenum">
              <a:t>13</a:t>
            </a:fld>
          </a:p>
        </p:txBody>
      </p:sp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12621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目录下的文件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TwinCAT\OPC\Server4\Samp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将文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拷贝一份到自定的文件夹中，例如放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所在的路径下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。由于需要修改此文件，拷贝一份去修改以保持模板不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3440" y="2376360"/>
            <a:ext cx="57672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71840" y="4079880"/>
            <a:ext cx="1103400" cy="361800"/>
          </a:xfrm>
          <a:prstGeom prst="wedgeEllipseCallout">
            <a:avLst>
              <a:gd name="adj1" fmla="val -1078"/>
              <a:gd name="adj2" fmla="val -613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EDBC-CCC1-400A-90F4-4BDB9D7F30C8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以记事本方式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修改此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7360" y="1609560"/>
            <a:ext cx="7829280" cy="51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46160" y="4468680"/>
            <a:ext cx="6505560" cy="1729080"/>
          </a:xfrm>
          <a:prstGeom prst="wedgeRoundRectCallout">
            <a:avLst>
              <a:gd name="adj1" fmla="val -29356"/>
              <a:gd name="adj2" fmla="val 39347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5920" y="4513320"/>
            <a:ext cx="1522440" cy="1015920"/>
          </a:xfrm>
          <a:prstGeom prst="wedgeRoundRectCallout">
            <a:avLst>
              <a:gd name="adj1" fmla="val -48851"/>
              <a:gd name="adj2" fmla="val 221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由于只发布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的变量，所以这部分删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2894040"/>
            <a:ext cx="7043760" cy="1500120"/>
          </a:xfrm>
          <a:prstGeom prst="wedgeRoundRectCallout">
            <a:avLst>
              <a:gd name="adj1" fmla="val -29805"/>
              <a:gd name="adj2" fmla="val 50212"/>
              <a:gd name="adj3" fmla="val 16667"/>
            </a:avLst>
          </a:prstGeom>
          <a:noFill/>
          <a:ln w="9360">
            <a:solidFill>
              <a:srgbClr val="0b38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4640" y="2989440"/>
            <a:ext cx="1144440" cy="639720"/>
          </a:xfrm>
          <a:prstGeom prst="wedgeRoundRectCallout">
            <a:avLst>
              <a:gd name="adj1" fmla="val -29611"/>
              <a:gd name="adj2" fmla="val 415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对这部分进行修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33B2-9BAC-4A6F-93DF-6FCEF4A24D96}" type="slidenum">
              <a:t>15</a:t>
            </a:fld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五、修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00" y="1822320"/>
            <a:ext cx="879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Plc1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scription&gt;Plc Runtime system 1&lt;/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NetId&gt;0.0.0.0.0.0&lt;/AdsNet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Port&gt;801&lt;/AdsPor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--AutoCfg = 1: Check "AutoCfgSymFile" and parse Symbol-File of PLC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&gt;1&lt;/AutoCfg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SymFile&gt;C:\TcOpcDemo\Versions\4.0.0.1\SampleLocal\opctest.sym &lt;/AutoCfgSym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960" y="4081320"/>
            <a:ext cx="598932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内容说明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可自定设备名，例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也可使用确省的名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设备的注释，不必修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设备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本机可使用确省的设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.0.0.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Por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设备的端口号。不同设备的端口号不同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端口号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设备不同此处添加的内容不同，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90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SymFi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要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程序的路径以及名称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\Intouch\plcOPC.sy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600" y="1816200"/>
            <a:ext cx="8377200" cy="20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4000680"/>
            <a:ext cx="8377200" cy="21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141B-3302-4ADF-839F-2F5B358082FE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、修改后要保存文件，修改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74800" y="1930320"/>
            <a:ext cx="735012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519A-6772-4FEF-8288-4ECF4853680D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80" y="126216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七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440" y="1928880"/>
            <a:ext cx="8115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BDC5-7A24-484F-A9AD-3E532D3288C2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八、点击左侧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修改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打开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80960" y="2027160"/>
            <a:ext cx="7148520" cy="448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8960" y="4395960"/>
            <a:ext cx="1011240" cy="652320"/>
          </a:xfrm>
          <a:prstGeom prst="wedgeRoundRectCallout">
            <a:avLst>
              <a:gd name="adj1" fmla="val -75115"/>
              <a:gd name="adj2" fmla="val -121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PC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4140360"/>
            <a:ext cx="1374840" cy="855360"/>
          </a:xfrm>
          <a:prstGeom prst="wedgeRoundRectCallout">
            <a:avLst>
              <a:gd name="adj1" fmla="val -74365"/>
              <a:gd name="adj2" fmla="val 11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选中修改的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文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4138560"/>
            <a:ext cx="1011240" cy="652680"/>
          </a:xfrm>
          <a:prstGeom prst="wedgeRoundRectCallout">
            <a:avLst>
              <a:gd name="adj1" fmla="val 57694"/>
              <a:gd name="adj2" fmla="val 150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打开按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02F1-21DC-453D-A787-FD079F7C7D42}" type="slidenum">
              <a:t>19</a:t>
            </a:fld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6120" y="2008080"/>
            <a:ext cx="616896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95560" y="2930400"/>
            <a:ext cx="2359080" cy="355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1262160"/>
            <a:ext cx="65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点击桌面右下角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99400" y="2770200"/>
            <a:ext cx="414360" cy="365040"/>
          </a:xfrm>
          <a:prstGeom prst="wedgeEllipseCallout">
            <a:avLst>
              <a:gd name="adj1" fmla="val -151148"/>
              <a:gd name="adj2" fmla="val -154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5440" y="4114800"/>
            <a:ext cx="430200" cy="392040"/>
          </a:xfrm>
          <a:prstGeom prst="wedgeEllipseCallout">
            <a:avLst>
              <a:gd name="adj1" fmla="val -259592"/>
              <a:gd name="adj2" fmla="val -130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84D9-F4B9-4174-B342-0C49D294AE99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280" y="1262160"/>
            <a:ext cx="801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九、弹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successfully activate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窗口，点击确定。至此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发布完毕。现在可以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测试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2847960"/>
            <a:ext cx="27720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68CC-01F6-4031-B83E-B7B8B2387E19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9440" y="2660760"/>
            <a:ext cx="43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C5E6-111E-4C5A-A386-ECCAAE3427DE}" type="slidenum">
              <a:t>21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5680" y="1824120"/>
            <a:ext cx="842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073480" y="2769480"/>
            <a:ext cx="760680" cy="560520"/>
          </a:xfrm>
          <a:prstGeom prst="wedgeRoundRectCallout">
            <a:avLst>
              <a:gd name="adj1" fmla="val -117018"/>
              <a:gd name="adj2" fmla="val 79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激活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200" y="127620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EF31-6435-4E78-A372-922476A3CFA3}" type="slidenum">
              <a:t>3</a:t>
            </a:fld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5240" y="1751040"/>
            <a:ext cx="3687480" cy="11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1000" y="1305000"/>
            <a:ext cx="84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弹出的窗体上点击确定，则可看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右下角出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66760" y="3049560"/>
            <a:ext cx="6458040" cy="35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45320" y="6283440"/>
            <a:ext cx="772920" cy="403200"/>
          </a:xfrm>
          <a:prstGeom prst="wedgeEllipseCallout">
            <a:avLst>
              <a:gd name="adj1" fmla="val -35833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2363-438F-4825-9247-2B214629C627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4880" y="1903320"/>
            <a:ext cx="21096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52480" y="1262160"/>
            <a:ext cx="776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再次点击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2080" y="2970360"/>
            <a:ext cx="1587600" cy="757080"/>
          </a:xfrm>
          <a:prstGeom prst="wedgeRoundRectCallout">
            <a:avLst>
              <a:gd name="adj1" fmla="val -72601"/>
              <a:gd name="adj2" fmla="val -52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打开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winCAT PL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CC87-FE93-4152-8B18-759B6B994AF8}" type="slidenum">
              <a:t>5</a:t>
            </a:fld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52480" y="1736640"/>
            <a:ext cx="7826400" cy="476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定义变量，编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6733-27A4-469C-8220-CC3A9E4E885C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2480" y="1262160"/>
            <a:ext cx="7378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保存程序，例如保存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，文件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2160" y="1981080"/>
            <a:ext cx="51465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49F5-E1DD-4693-A479-7CF0DE03066A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6640" y="1604880"/>
            <a:ext cx="48196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23D4-D5BD-40C2-83FE-E8EA37EE406E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2480" y="126216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symbol entri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symbol file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2400" y="1973160"/>
            <a:ext cx="7153200" cy="448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7200" y="2830680"/>
            <a:ext cx="739800" cy="649080"/>
          </a:xfrm>
          <a:prstGeom prst="wedgeRoundRectCallout">
            <a:avLst>
              <a:gd name="adj1" fmla="val -125749"/>
              <a:gd name="adj2" fmla="val -531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打勾选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91040" y="4140360"/>
            <a:ext cx="417600" cy="392040"/>
          </a:xfrm>
          <a:prstGeom prst="wedgeEllipseCallout">
            <a:avLst>
              <a:gd name="adj1" fmla="val -224523"/>
              <a:gd name="adj2" fmla="val -170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BAF3-2FE6-41B9-9D5A-06A513B7BC07}" type="slidenum">
              <a:t>9</a:t>
            </a:fld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30:59Z</dcterms:modified>
  <cp:revision>363</cp:revision>
  <dc:subject/>
  <dc:title>Kein Folientitel</dc:title>
</cp:coreProperties>
</file>