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57E0E-53FD-416B-A8A3-C839A0A8A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49FC5-5A07-4AF8-B8C9-8727115AB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24367-F4A8-4FF6-9418-ABD1CA5D5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6124A-162F-467A-9FEF-F3AA4CBFD8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020D6-393F-4BB3-AFAF-595C1F747B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E9EB8-9042-450E-B5F7-CC0E742E2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C3F7F-6E3C-47DE-8143-C0D094BB8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8F1D-6A6E-4B9F-A2AA-C38B598F2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7B94B-5150-4EF6-A0A9-1FBB2084A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DF034-B1B2-437C-8C9F-796DE4EE2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83A63-2AAC-4675-9427-56F3790E2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F62F1-8E82-4892-A880-5125FA131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96FB-B7B9-4351-9868-2BCCC6E2E3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2480" y="1262160"/>
            <a:ext cx="71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Wonderwa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IO Server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CLin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。点击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00240" y="2224080"/>
            <a:ext cx="6578640" cy="328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B64A8-0DC6-44C7-BEBB-BFCBB1C477A4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、选中“用户输入“部分的“模拟“前的复选框，点击“模拟“按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7520" y="2054160"/>
            <a:ext cx="5545080" cy="4318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16200" y="3513240"/>
            <a:ext cx="1239840" cy="349200"/>
          </a:xfrm>
          <a:prstGeom prst="wedgeEllipseCallout">
            <a:avLst>
              <a:gd name="adj1" fmla="val -2733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FAEE5-4F34-4FE6-9D70-99E734A4FFF0}" type="slidenum">
              <a:t>10</a:t>
            </a:fld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一、标记名中选择定义的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可设定用户输入的最大值和最小值。点击“确定“按钮退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5120" y="2143080"/>
            <a:ext cx="6140520" cy="3557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86080" y="3436920"/>
            <a:ext cx="1333440" cy="349200"/>
          </a:xfrm>
          <a:prstGeom prst="wedgeEllipseCallout">
            <a:avLst>
              <a:gd name="adj1" fmla="val -28930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32120" y="4846680"/>
            <a:ext cx="1682640" cy="765000"/>
          </a:xfrm>
          <a:prstGeom prst="wedgeEllipseCallout">
            <a:avLst>
              <a:gd name="adj1" fmla="val -33300"/>
              <a:gd name="adj2" fmla="val -1162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002B6-A3D3-41B1-BBD8-8DAB552DB78C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2480" y="1262160"/>
            <a:ext cx="77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二、保存整个工程项目，然后点击右上角的“运行“标志，使程序运行起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6160" y="1724040"/>
            <a:ext cx="6883560" cy="4127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174080" y="1943280"/>
            <a:ext cx="942840" cy="349200"/>
          </a:xfrm>
          <a:prstGeom prst="wedgeEllipseCallout">
            <a:avLst>
              <a:gd name="adj1" fmla="val -17509"/>
              <a:gd name="adj2" fmla="val 1090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1A346-C42B-4E7B-BCBB-1041C62A3BA9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52480" y="1262160"/>
            <a:ext cx="79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三、保存整个工程项目，然后点击右上角的“运行“标志，使程序运行起来，这时在窗体上可看到读取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71760" y="1947960"/>
            <a:ext cx="5957640" cy="46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622C2-BCC5-4BD8-992C-004F3EC77270}" type="slidenum">
              <a:t>13</a:t>
            </a:fld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2480" y="12621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四、点击文本，用户可以输入数值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回车后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中可以看到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值也变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11120" y="2146320"/>
            <a:ext cx="6640560" cy="39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106F3-832B-4C9F-ABE1-BDD6D0B43A42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59000" y="2660760"/>
            <a:ext cx="44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1F1AA-FF04-469B-BA7A-5CE7798A9AC7}" type="slidenum">
              <a:t>15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点击按钮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增加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 Topi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2395440"/>
            <a:ext cx="4816800" cy="291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BEBE2-957C-4C22-816D-68473CD4C905}" type="slidenum">
              <a:t>2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2480" y="1224000"/>
            <a:ext cx="80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 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设置参数。设置完毕点击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即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06440" y="1555920"/>
            <a:ext cx="6486480" cy="380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16240" y="21002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28880" y="2719440"/>
            <a:ext cx="942840" cy="255600"/>
          </a:xfrm>
          <a:prstGeom prst="wedgeEllipseCallout">
            <a:avLst>
              <a:gd name="adj1" fmla="val -18856"/>
              <a:gd name="adj2" fmla="val 2825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27120" y="3011400"/>
            <a:ext cx="487440" cy="282600"/>
          </a:xfrm>
          <a:prstGeom prst="wedgeEllipseCallout">
            <a:avLst>
              <a:gd name="adj1" fmla="val -36319"/>
              <a:gd name="adj2" fmla="val 2078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65160" y="2452680"/>
            <a:ext cx="943200" cy="255600"/>
          </a:xfrm>
          <a:prstGeom prst="wedgeEllipseCallout">
            <a:avLst>
              <a:gd name="adj1" fmla="val -20203"/>
              <a:gd name="adj2" fmla="val 3881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3800" y="5313240"/>
            <a:ext cx="785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数设置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自定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名称，此处设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Node Na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由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本机，因此不必输入节点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通过下拉式菜单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.TwinCATOpcServer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O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路径，此处为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.M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文件定义的设备名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发布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所在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Us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称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48A55-22F7-4CAC-ACCF-68183465BE45}" type="slidenum">
              <a:t>3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2480" y="1262160"/>
            <a:ext cx="68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新建一个项目命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程环境，点击左侧资源窗口中“配置“下的“访问名“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63600" y="1913040"/>
            <a:ext cx="5953320" cy="4743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57520" y="5033880"/>
            <a:ext cx="728640" cy="349200"/>
          </a:xfrm>
          <a:prstGeom prst="wedgeEllipseCallout">
            <a:avLst>
              <a:gd name="adj1" fmla="val -11439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91B26-9A62-4FE5-A698-9E76F7FA16C3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在访问名窗口中点击“添加“按钮，增加一个访问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46440" y="2341440"/>
            <a:ext cx="4173480" cy="23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DC86F-2DFE-4A2F-8588-501141AAAD56}" type="slidenum">
              <a:t>5</a:t>
            </a:fld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在添加访问名窗口设置参数。设置完毕点击“确定“按钮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57280" y="5478480"/>
            <a:ext cx="644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数设置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访问名：自定义，此处设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节点名：由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本机，因此不必输入节点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应用程序名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题名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即在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Link Topic Definition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窗口定义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称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93720" y="1649520"/>
            <a:ext cx="5145120" cy="37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5BF6D-B6B9-4F5B-AC60-1AD185F1DD51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、点击左侧资源窗口中的“标记名字典“。新建变量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设置完毕点击“保存“按钮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01600" y="1876320"/>
            <a:ext cx="6842160" cy="3413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35080" y="274320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90760" y="4699080"/>
            <a:ext cx="863640" cy="349200"/>
          </a:xfrm>
          <a:prstGeom prst="wedgeEllipseCallout">
            <a:avLst>
              <a:gd name="adj1" fmla="val -17462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35080" y="49658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24320" y="3022560"/>
            <a:ext cx="782640" cy="349200"/>
          </a:xfrm>
          <a:prstGeom prst="wedgeEllipseCallout">
            <a:avLst>
              <a:gd name="adj1" fmla="val -1409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1000" y="2717640"/>
            <a:ext cx="716040" cy="349560"/>
          </a:xfrm>
          <a:prstGeom prst="wedgeEllipseCallout">
            <a:avLst>
              <a:gd name="adj1" fmla="val -10754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03480" y="5288040"/>
            <a:ext cx="6710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定义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标记名：自定义，此处定义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类型：设置变量的类型，由于要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连接，故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整型，选中读写单选项是为了可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访问名：选择定义的访问名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项目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因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整型，所以加前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FC174-5E1B-44AD-A28B-236FB7B81528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、变量定义说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73000" y="3720960"/>
            <a:ext cx="318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定义中的“项目”说明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尔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数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符串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67080" y="2239920"/>
            <a:ext cx="4229280" cy="2914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55720" y="1893960"/>
            <a:ext cx="4046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定义中的“类型”说明，对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尔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离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数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符串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消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E9996-DB47-4B36-8E4B-C4C83EDF25EA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、点击左侧资源窗口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“，添加新窗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在窗体上添加一个文本，打开其动画链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39960" y="1989000"/>
            <a:ext cx="5392800" cy="439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87D8F-C957-411E-B08F-2F0C4A5C9B67}" type="slidenum">
              <a:t>9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12-31T02:26:40Z</dcterms:modified>
  <cp:revision>377</cp:revision>
  <dc:subject/>
  <dc:title>Kein Folientitel</dc:title>
</cp:coreProperties>
</file>