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6C618-2AC0-40A8-B581-5CE8C6B4D3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3440" y="3721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4E82C-D0F8-4B53-97C1-9D83660641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3440" y="3721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146120" y="3721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8C029-6DA4-4B3C-A9BA-3E8E38CF95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791440" y="1571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419080" y="1571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3440" y="3721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791440" y="3721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419080" y="3721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FFE57-7735-4782-AFB3-827E21EFBC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3440" y="157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B66B9-556C-4316-AB2F-E7F161B1C0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D8005-AEC7-4093-BAEC-C92FF76528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8B012-B1A8-4B3F-A00F-16CB29FD75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E7E92-611D-4792-AD69-9D3C5B5D6A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63440" y="655560"/>
            <a:ext cx="777240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4C9D2-5968-482D-97BE-E5123150CE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3440" y="3721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71562-1B8D-438B-B392-7ECADEB40F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46120" y="3721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49273-70CF-4AD7-A3E8-2B30A44C58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3440" y="3721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23B2B-C5D6-4818-B7C8-3207817048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177480" y="6543720"/>
            <a:ext cx="437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D537B-C449-462D-B700-473AE07B6D7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69840" y="334800"/>
            <a:ext cx="1055520" cy="21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12600" y="136440"/>
            <a:ext cx="5402520" cy="3952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304920" y="7621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body"/>
          </p:nvPr>
        </p:nvSpPr>
        <p:spPr>
          <a:xfrm>
            <a:off x="163440" y="157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4"/>
          <a:stretch/>
        </p:blipFill>
        <p:spPr>
          <a:xfrm>
            <a:off x="5769000" y="76320"/>
            <a:ext cx="3222720" cy="501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 Cli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52480" y="1262160"/>
            <a:ext cx="744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、开始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有程序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TwinCAT Syste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TwinCAT OP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OPC Test Clien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打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khoff OPC Clien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口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57280" y="1995480"/>
            <a:ext cx="8029440" cy="4410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40137-647E-4562-AC80-FCC499F1F1AD}" type="slidenum">
              <a:t>1</a:t>
            </a:fld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 Cli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52480" y="1262160"/>
            <a:ext cx="74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二、点击菜单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Logi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登录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23920" y="1857240"/>
            <a:ext cx="6759720" cy="41608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455920" y="3340080"/>
            <a:ext cx="554040" cy="349200"/>
          </a:xfrm>
          <a:prstGeom prst="wedgeEllipseCallout">
            <a:avLst>
              <a:gd name="adj1" fmla="val 717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63B7A-7C82-4A61-A8A2-A2A2EA4F91EB}" type="slidenum">
              <a:t>2</a:t>
            </a:fld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 Cli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52480" y="1262160"/>
            <a:ext cx="764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三、点击工具栏中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Server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标，在弹出的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 Properties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口选中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khoff.TwinCATOpcServerDA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然后点击“确定”按钮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035000" y="1895400"/>
            <a:ext cx="6923160" cy="4832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884240" y="2527200"/>
            <a:ext cx="554040" cy="349200"/>
          </a:xfrm>
          <a:prstGeom prst="wedgeEllipseCallout">
            <a:avLst>
              <a:gd name="adj1" fmla="val 717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06680" y="3241800"/>
            <a:ext cx="392040" cy="349200"/>
          </a:xfrm>
          <a:prstGeom prst="wedgeEllipseCallout">
            <a:avLst>
              <a:gd name="adj1" fmla="val 69435"/>
              <a:gd name="adj2" fmla="val -16181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807080" y="4816440"/>
            <a:ext cx="392040" cy="349200"/>
          </a:xfrm>
          <a:prstGeom prst="wedgeEllipseCallout">
            <a:avLst>
              <a:gd name="adj1" fmla="val 69435"/>
              <a:gd name="adj2" fmla="val -16181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315120" y="5695920"/>
            <a:ext cx="404640" cy="349200"/>
          </a:xfrm>
          <a:prstGeom prst="wedgeEllipseCallout">
            <a:avLst>
              <a:gd name="adj1" fmla="val -67648"/>
              <a:gd name="adj2" fmla="val 16136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00440" y="4102200"/>
            <a:ext cx="2517840" cy="349200"/>
          </a:xfrm>
          <a:prstGeom prst="wedgeEllipseCallout">
            <a:avLst>
              <a:gd name="adj1" fmla="val -38837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3C534-19DF-41CD-9AC1-BA97A45D7755}" type="slidenum">
              <a:t>3</a:t>
            </a:fld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 Cli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52480" y="1262160"/>
            <a:ext cx="752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四、点击工具栏中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Group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标，弹出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Properties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口，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自定一个名字，例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然后点击“确定”按钮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14400" y="2089080"/>
            <a:ext cx="7311960" cy="42656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601640" y="3203640"/>
            <a:ext cx="392400" cy="349200"/>
          </a:xfrm>
          <a:prstGeom prst="wedgeEllipseCallout">
            <a:avLst>
              <a:gd name="adj1" fmla="val 90078"/>
              <a:gd name="adj2" fmla="val -16181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726080" y="3952800"/>
            <a:ext cx="392040" cy="349200"/>
          </a:xfrm>
          <a:prstGeom prst="wedgeEllipseCallout">
            <a:avLst>
              <a:gd name="adj1" fmla="val -143115"/>
              <a:gd name="adj2" fmla="val -1504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11920" y="5442120"/>
            <a:ext cx="392040" cy="349200"/>
          </a:xfrm>
          <a:prstGeom prst="wedgeEllipseCallout">
            <a:avLst>
              <a:gd name="adj1" fmla="val -71458"/>
              <a:gd name="adj2" fmla="val 16136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55880" y="2616120"/>
            <a:ext cx="419040" cy="349200"/>
          </a:xfrm>
          <a:prstGeom prst="wedgeEllipseCallout">
            <a:avLst>
              <a:gd name="adj1" fmla="val -15152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646360" y="3429000"/>
            <a:ext cx="1790640" cy="349200"/>
          </a:xfrm>
          <a:prstGeom prst="wedgeEllipseCallout">
            <a:avLst>
              <a:gd name="adj1" fmla="val -34310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4AAAF-D95E-4FDE-AD5B-4E8526CE2867}" type="slidenum">
              <a:t>4</a:t>
            </a:fld>
          </a:p>
        </p:txBody>
      </p:sp>
    </p:spTree>
  </p:cSld>
  <p:transition spd="med">
    <p:zoom dir="ou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 Cli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52480" y="1262160"/>
            <a:ext cx="770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五、点击工具栏中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Item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标，弹出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Items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口，先点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khoff.TwinCATOpcServerD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打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然后打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选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在右侧窗口中双击各个变量，例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Va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等，点击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K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按钮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08120" y="2168640"/>
            <a:ext cx="7762680" cy="45338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846440" y="2679840"/>
            <a:ext cx="554040" cy="349200"/>
          </a:xfrm>
          <a:prstGeom prst="wedgeEllipseCallout">
            <a:avLst>
              <a:gd name="adj1" fmla="val 717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65440" y="4452840"/>
            <a:ext cx="2220840" cy="1020960"/>
          </a:xfrm>
          <a:prstGeom prst="wedgeEllipseCallout">
            <a:avLst>
              <a:gd name="adj1" fmla="val -18620"/>
              <a:gd name="adj2" fmla="val -44865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41880" y="4527720"/>
            <a:ext cx="1333440" cy="1276200"/>
          </a:xfrm>
          <a:prstGeom prst="wedgeEllipseCallout">
            <a:avLst>
              <a:gd name="adj1" fmla="val 2263"/>
              <a:gd name="adj2" fmla="val -25870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3381480"/>
            <a:ext cx="379440" cy="349200"/>
          </a:xfrm>
          <a:prstGeom prst="wedgeEllipseCallout">
            <a:avLst>
              <a:gd name="adj1" fmla="val 70083"/>
              <a:gd name="adj2" fmla="val -16181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22320" y="5286240"/>
            <a:ext cx="392400" cy="349560"/>
          </a:xfrm>
          <a:prstGeom prst="wedgeEllipseCallout">
            <a:avLst>
              <a:gd name="adj1" fmla="val 165791"/>
              <a:gd name="adj2" fmla="val -13454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10480" y="5564160"/>
            <a:ext cx="406440" cy="349200"/>
          </a:xfrm>
          <a:prstGeom prst="wedgeEllipseCallout">
            <a:avLst>
              <a:gd name="adj1" fmla="val -132814"/>
              <a:gd name="adj2" fmla="val -16954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413480" y="3355920"/>
            <a:ext cx="406440" cy="349200"/>
          </a:xfrm>
          <a:prstGeom prst="wedgeEllipseCallout">
            <a:avLst>
              <a:gd name="adj1" fmla="val 59763"/>
              <a:gd name="adj2" fmla="val -22772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77529-8856-49DF-A976-02C93B7895AA}" type="slidenum">
              <a:t>5</a:t>
            </a:fld>
          </a:p>
        </p:txBody>
      </p:sp>
    </p:spTree>
  </p:cSld>
  <p:transition spd="med">
    <p:zoom dir="ou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 Cli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52480" y="1262160"/>
            <a:ext cx="74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六、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inCAT 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读取的变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71480" y="1852560"/>
            <a:ext cx="7601040" cy="4565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ED417-7D2B-4602-BA3C-47BEF053D5DC}" type="slidenum">
              <a:t>6</a:t>
            </a:fld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 Cli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11280" y="2660760"/>
            <a:ext cx="4334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89e0"/>
                </a:solidFill>
                <a:latin typeface="Arial"/>
              </a:rPr>
              <a:t>THANK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FE688-81AC-44F0-9DB5-866E932741C2}" type="slidenum">
              <a:t>7</a:t>
            </a:fld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3T11:36:04Z</dcterms:created>
  <dc:creator>Dokumentation</dc:creator>
  <dc:description/>
  <dc:language>en-US</dc:language>
  <cp:lastModifiedBy>wyz</cp:lastModifiedBy>
  <cp:lastPrinted>2000-02-15T10:00:28Z</cp:lastPrinted>
  <dcterms:modified xsi:type="dcterms:W3CDTF">2005-09-08T02:33:57Z</dcterms:modified>
  <cp:revision>385</cp:revision>
  <dc:subject/>
  <dc:title>Kein Folientitel</dc:title>
</cp:coreProperties>
</file>