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A58B-7721-4D04-944E-616785441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88F4-319C-447C-9B2D-24CA51C9D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9822-EAC3-49F7-9244-980B74A8F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6DA0-1E53-43CC-8C3A-45C3D0692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ABB2-04A7-49CA-A9B9-9304AD511B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CC59-5685-44AB-8157-800572375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B1A7-0FDF-4F63-BBF5-E06411722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6EE1-6681-4529-AB6A-2AEEF00D2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C710-1977-4413-869E-88B7A3A97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1741-5CF9-4E40-873E-5B6EDE2FD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043A-1BBE-4DFB-AF50-2698BAF35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EAC9-19BB-4D16-8ABD-928464224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75B6-34A1-4250-9E09-BB3EAA88AF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C&#35828;&#26126;&#20070;.pdf" TargetMode="External"/><Relationship Id="rId2" Type="http://schemas.openxmlformats.org/officeDocument/2006/relationships/hyperlink" Target="file:///OPC&#35828;&#26126;&#20070;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2181240"/>
            <a:ext cx="70866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 FOR PROCESS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为一种标准的通讯协议，被广大客户接受，并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本着开放的通讯理念，同样提供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设备通讯方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05600" y="1573200"/>
            <a:ext cx="1184400" cy="40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OPC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CC58-D5AB-46AC-888D-635C85B08F87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1262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选中需要发布的变量，窗口下面的五个选项全部打实勾。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该窗体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也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重新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重新保存程序。这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49480" y="2482920"/>
            <a:ext cx="4986360" cy="424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5246640"/>
            <a:ext cx="1360440" cy="920880"/>
          </a:xfrm>
          <a:prstGeom prst="wedgeRoundRectCallout">
            <a:avLst>
              <a:gd name="adj1" fmla="val -159453"/>
              <a:gd name="adj2" fmla="val 39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五个选项全部选中，注意全部打实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0240" y="5810400"/>
            <a:ext cx="309600" cy="930240"/>
          </a:xfrm>
          <a:prstGeom prst="wedgeEllipseCallout">
            <a:avLst>
              <a:gd name="adj1" fmla="val 12050"/>
              <a:gd name="adj2" fmla="val 18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657600"/>
            <a:ext cx="1952640" cy="1079640"/>
          </a:xfrm>
          <a:prstGeom prst="wedgeRoundRectCallout">
            <a:avLst>
              <a:gd name="adj1" fmla="val -75365"/>
              <a:gd name="adj2" fmla="val -595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全部选中则发布所有变量。若只发布全局变量，则只需选中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ob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9BB4-B58F-498B-9B01-60041C787E02}" type="slidenum">
              <a:t>10</a:t>
            </a:fld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Choose Run-Time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693800"/>
            <a:ext cx="59245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9F77-7CCD-4527-820A-3B01855F0A45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选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的系统，这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80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6280" y="2104920"/>
            <a:ext cx="50259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1FCC-F6DF-448A-8064-6B14E29C51BA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登录，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起来，这时可看到右下角的绿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9800" y="1855800"/>
            <a:ext cx="772488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36520" y="3157560"/>
            <a:ext cx="1011240" cy="652320"/>
          </a:xfrm>
          <a:prstGeom prst="wedgeRoundRectCallout">
            <a:avLst>
              <a:gd name="adj1" fmla="val 4629"/>
              <a:gd name="adj2" fmla="val -164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3100320"/>
            <a:ext cx="1119240" cy="733320"/>
          </a:xfrm>
          <a:prstGeom prst="wedgeRoundRectCallout">
            <a:avLst>
              <a:gd name="adj1" fmla="val -186597"/>
              <a:gd name="adj2" fmla="val -146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6442200"/>
            <a:ext cx="538200" cy="403200"/>
          </a:xfrm>
          <a:prstGeom prst="wedgeEllipseCallout">
            <a:avLst>
              <a:gd name="adj1" fmla="val -29648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4C33-FAAB-48CC-B3E9-F6959D6553B7}" type="slidenum">
              <a:t>13</a:t>
            </a:fld>
          </a:p>
        </p:txBody>
      </p:sp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12621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目录下的文件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TwinCAT\OPC\Server4\Samp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将文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拷贝一份到自定的文件夹中，例如放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所在的路径下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。由于需要修改此文件，拷贝一份去修改以保持模板不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3440" y="2376360"/>
            <a:ext cx="57672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71840" y="4079880"/>
            <a:ext cx="1103400" cy="361800"/>
          </a:xfrm>
          <a:prstGeom prst="wedgeEllipseCallout">
            <a:avLst>
              <a:gd name="adj1" fmla="val -1078"/>
              <a:gd name="adj2" fmla="val -61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D0B6-5925-48D2-B16F-1879DC67B534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以记事本方式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修改此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7360" y="1609560"/>
            <a:ext cx="7829280" cy="51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46160" y="4468680"/>
            <a:ext cx="6505560" cy="1729080"/>
          </a:xfrm>
          <a:prstGeom prst="wedgeRoundRectCallout">
            <a:avLst>
              <a:gd name="adj1" fmla="val -29356"/>
              <a:gd name="adj2" fmla="val 39347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5920" y="4513320"/>
            <a:ext cx="1522440" cy="1015920"/>
          </a:xfrm>
          <a:prstGeom prst="wedgeRoundRectCallout">
            <a:avLst>
              <a:gd name="adj1" fmla="val -48851"/>
              <a:gd name="adj2" fmla="val 22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由于只发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的变量，所以这部分删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2894040"/>
            <a:ext cx="7043760" cy="1500120"/>
          </a:xfrm>
          <a:prstGeom prst="wedgeRoundRectCallout">
            <a:avLst>
              <a:gd name="adj1" fmla="val -29805"/>
              <a:gd name="adj2" fmla="val 50212"/>
              <a:gd name="adj3" fmla="val 16667"/>
            </a:avLst>
          </a:prstGeom>
          <a:noFill/>
          <a:ln w="9360">
            <a:solidFill>
              <a:srgbClr val="0b38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989440"/>
            <a:ext cx="1144440" cy="639720"/>
          </a:xfrm>
          <a:prstGeom prst="wedgeRoundRectCallout">
            <a:avLst>
              <a:gd name="adj1" fmla="val -29611"/>
              <a:gd name="adj2" fmla="val 41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对这部分进行修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088D-0125-433F-B509-4961FC2FDAF0}" type="slidenum">
              <a:t>15</a:t>
            </a:fld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五、修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00" y="1822320"/>
            <a:ext cx="879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Plc1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scription&gt;Plc Runtime system 1&lt;/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NetId&gt;0.0.0.0.0.0&lt;/AdsNet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Port&gt;801&lt;/Ads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--AutoCfg = 1: Check "AutoCfgSymFile" and parse Symbol-File of PLC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&gt;1&lt;/AutoCfg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SymFile&gt;C:\TcOpcDemo\Versions\4.0.0.1\SampleLocal\opctest.sym &lt;/AutoCfgSym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960" y="4081320"/>
            <a:ext cx="59893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内容说明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可自定设备名，例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也可使用确省的名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设备的注释，不必修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设备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本机可使用确省的设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.0.0.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Por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设备的端口号。不同设备的端口号不同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端口号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设备不同此处添加的内容不同，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90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SymF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要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程序的路径以及名称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\Intouch\plcOPC.sy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1816200"/>
            <a:ext cx="8377200" cy="20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4000680"/>
            <a:ext cx="8377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6497-9269-493E-A1A6-AAE2164FCCBD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、修改后要保存文件，修改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74800" y="1930320"/>
            <a:ext cx="735012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AC78-3EAA-4A77-BA70-33BF51FBEF6A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80" y="126216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440" y="1928880"/>
            <a:ext cx="8115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4A03-C034-43E9-BD0B-2513A178155D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八、点击左侧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修改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打开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80960" y="2027160"/>
            <a:ext cx="7148520" cy="448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8960" y="4395960"/>
            <a:ext cx="1011240" cy="652320"/>
          </a:xfrm>
          <a:prstGeom prst="wedgeRoundRectCallout">
            <a:avLst>
              <a:gd name="adj1" fmla="val -75115"/>
              <a:gd name="adj2" fmla="val -121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PC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4140360"/>
            <a:ext cx="1374840" cy="855360"/>
          </a:xfrm>
          <a:prstGeom prst="wedgeRoundRectCallout">
            <a:avLst>
              <a:gd name="adj1" fmla="val -74365"/>
              <a:gd name="adj2" fmla="val 11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选中修改的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文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4138560"/>
            <a:ext cx="1011240" cy="652680"/>
          </a:xfrm>
          <a:prstGeom prst="wedgeRoundRectCallout">
            <a:avLst>
              <a:gd name="adj1" fmla="val 57694"/>
              <a:gd name="adj2" fmla="val 15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打开按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2D93-D2C7-420D-81F9-FCC9B4490385}" type="slidenum">
              <a:t>19</a:t>
            </a:fld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6120" y="2008080"/>
            <a:ext cx="616896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95560" y="2930400"/>
            <a:ext cx="2359080" cy="355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126216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点击桌面右下角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99400" y="2770200"/>
            <a:ext cx="414360" cy="365040"/>
          </a:xfrm>
          <a:prstGeom prst="wedgeEllipseCallout">
            <a:avLst>
              <a:gd name="adj1" fmla="val -151148"/>
              <a:gd name="adj2" fmla="val -154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5440" y="4114800"/>
            <a:ext cx="430200" cy="392040"/>
          </a:xfrm>
          <a:prstGeom prst="wedgeEllipseCallout">
            <a:avLst>
              <a:gd name="adj1" fmla="val -259592"/>
              <a:gd name="adj2" fmla="val -130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8D1D-7A29-420E-8CA9-A09A3B5BF509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1262160"/>
            <a:ext cx="801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九、弹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successfully activat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窗口，点击确定。至此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发布完毕。现在可以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测试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2847960"/>
            <a:ext cx="27720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C073-5CBC-48CF-8E34-2C5DE760792B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9440" y="2660760"/>
            <a:ext cx="43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4191-2B43-4C43-B35A-E9CD10E63510}" type="slidenum">
              <a:t>21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5680" y="1824120"/>
            <a:ext cx="842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3480" y="2769480"/>
            <a:ext cx="760680" cy="560520"/>
          </a:xfrm>
          <a:prstGeom prst="wedgeRoundRectCallout">
            <a:avLst>
              <a:gd name="adj1" fmla="val -117018"/>
              <a:gd name="adj2" fmla="val 79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激活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127620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6C3B-A202-41B6-973E-6882A3B6B936}" type="slidenum">
              <a:t>3</a:t>
            </a:fld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5240" y="1751040"/>
            <a:ext cx="3687480" cy="11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1000" y="130500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弹出的窗体上点击确定，则可看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右下角出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66760" y="3049560"/>
            <a:ext cx="6458040" cy="35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45320" y="6283440"/>
            <a:ext cx="772920" cy="403200"/>
          </a:xfrm>
          <a:prstGeom prst="wedgeEllipseCallout">
            <a:avLst>
              <a:gd name="adj1" fmla="val -35833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67E0-1C5B-4FD4-AC52-5A7D6699E319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4880" y="1903320"/>
            <a:ext cx="21096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2480" y="1262160"/>
            <a:ext cx="776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再次点击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2080" y="2970360"/>
            <a:ext cx="1587600" cy="757080"/>
          </a:xfrm>
          <a:prstGeom prst="wedgeRoundRectCallout">
            <a:avLst>
              <a:gd name="adj1" fmla="val -72601"/>
              <a:gd name="adj2" fmla="val -52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winCAT PL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2F3E-D1D9-4D2D-9C57-3D069E022C4D}" type="slidenum">
              <a:t>5</a:t>
            </a:fld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2480" y="1736640"/>
            <a:ext cx="7826400" cy="476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定义变量，编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827F-F979-4D3C-BC3F-36DA18F25461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2480" y="1262160"/>
            <a:ext cx="737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保存程序，例如保存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，文件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2160" y="1981080"/>
            <a:ext cx="5146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A31F-7541-4D52-8884-560F7ABEDB7E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6640" y="1604880"/>
            <a:ext cx="48196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168A-A843-48A3-8C0E-C9BFF1864069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2480" y="126216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symbol entr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symbol file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2400" y="1973160"/>
            <a:ext cx="7153200" cy="448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7200" y="2830680"/>
            <a:ext cx="739800" cy="649080"/>
          </a:xfrm>
          <a:prstGeom prst="wedgeRoundRectCallout">
            <a:avLst>
              <a:gd name="adj1" fmla="val -125749"/>
              <a:gd name="adj2" fmla="val -53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打勾选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1040" y="4140360"/>
            <a:ext cx="417600" cy="392040"/>
          </a:xfrm>
          <a:prstGeom prst="wedgeEllipseCallout">
            <a:avLst>
              <a:gd name="adj1" fmla="val -224523"/>
              <a:gd name="adj2" fmla="val -1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6C6C-9AE6-4E31-AE92-852E278A6475}" type="slidenum">
              <a:t>9</a:t>
            </a:fld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30:59Z</dcterms:modified>
  <cp:revision>363</cp:revision>
  <dc:subject/>
  <dc:title>Kein Folientitel</dc:title>
</cp:coreProperties>
</file>