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4C124-6B41-400F-80B9-6178E528D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B299F-3624-4AD5-9501-4DE4B2C20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6D83B-F997-43CD-B724-234222AD9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E8658-6B17-405C-843A-F66AD85A22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D8FAF-373F-4CC1-B0F9-AA4740DD02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828CD-3F0D-49C5-82CB-F3F0CB783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286E8-099D-4A49-A91E-4FE5F77A3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BF62-88EE-4134-BC41-1E60919DB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DF7EA-8975-499C-962C-B7211BE17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2420-60AB-48B7-97E1-EBBCC0661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85213-FF79-443C-A17C-FE74E391A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53D21-8F55-4B45-95A8-6F23B62BB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6A81-49C4-4975-9EFE-AD06E72E53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2480" y="1262160"/>
            <a:ext cx="71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Wonderwa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IO Server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CLin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。点击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00240" y="2224080"/>
            <a:ext cx="6578640" cy="328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5DF2-FCC7-492D-9001-0581205A9D69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、选中“用户输入“部分的“模拟“前的复选框，点击“模拟“按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7520" y="2054160"/>
            <a:ext cx="5545080" cy="4318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16200" y="3513240"/>
            <a:ext cx="1239840" cy="349200"/>
          </a:xfrm>
          <a:prstGeom prst="wedgeEllipseCallout">
            <a:avLst>
              <a:gd name="adj1" fmla="val -2733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E3E61-DF3B-497C-BB45-219EDDDB619B}" type="slidenum">
              <a:t>10</a:t>
            </a:fld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一、标记名中选择定义的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可设定用户输入的最大值和最小值。点击“确定“按钮退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5120" y="2143080"/>
            <a:ext cx="6140520" cy="3557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86080" y="3436920"/>
            <a:ext cx="1333440" cy="349200"/>
          </a:xfrm>
          <a:prstGeom prst="wedgeEllipseCallout">
            <a:avLst>
              <a:gd name="adj1" fmla="val -28930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32120" y="4846680"/>
            <a:ext cx="1682640" cy="765000"/>
          </a:xfrm>
          <a:prstGeom prst="wedgeEllipseCallout">
            <a:avLst>
              <a:gd name="adj1" fmla="val -33300"/>
              <a:gd name="adj2" fmla="val -1162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5CB7-798D-4933-A0F1-CC791C53E9DA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2480" y="1262160"/>
            <a:ext cx="77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二、保存整个工程项目，然后点击右上角的“运行“标志，使程序运行起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6160" y="1724040"/>
            <a:ext cx="6883560" cy="4127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174080" y="1943280"/>
            <a:ext cx="942840" cy="349200"/>
          </a:xfrm>
          <a:prstGeom prst="wedgeEllipseCallout">
            <a:avLst>
              <a:gd name="adj1" fmla="val -17509"/>
              <a:gd name="adj2" fmla="val 1090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DCCE8-2AD1-486F-A30E-4E1F67007A56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2480" y="1262160"/>
            <a:ext cx="79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三、保存整个工程项目，然后点击右上角的“运行“标志，使程序运行起来，这时在窗体上可看到读取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71760" y="1947960"/>
            <a:ext cx="5957640" cy="46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6C2D6-30A2-4240-A69A-93B3333A01C4}" type="slidenum">
              <a:t>13</a:t>
            </a:fld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2480" y="12621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四、点击文本，用户可以输入数值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回车后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中可以看到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值也变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11120" y="2146320"/>
            <a:ext cx="6640560" cy="39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57A4D-956C-4C52-AA3C-08510013F7D0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59000" y="2660760"/>
            <a:ext cx="44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4DCB8-5C14-4EA6-8354-9AEEB34038C7}" type="slidenum">
              <a:t>15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点击按钮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增加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 Topi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2395440"/>
            <a:ext cx="4816800" cy="291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6CBD-8369-4CBE-A0FD-70238A57E063}" type="slidenum">
              <a:t>2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2480" y="1224000"/>
            <a:ext cx="80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 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设置参数。设置完毕点击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即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06440" y="1555920"/>
            <a:ext cx="6486480" cy="380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16240" y="21002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28880" y="2719440"/>
            <a:ext cx="942840" cy="255600"/>
          </a:xfrm>
          <a:prstGeom prst="wedgeEllipseCallout">
            <a:avLst>
              <a:gd name="adj1" fmla="val -18856"/>
              <a:gd name="adj2" fmla="val 2825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27120" y="3011400"/>
            <a:ext cx="487440" cy="282600"/>
          </a:xfrm>
          <a:prstGeom prst="wedgeEllipseCallout">
            <a:avLst>
              <a:gd name="adj1" fmla="val -36319"/>
              <a:gd name="adj2" fmla="val 2078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65160" y="2452680"/>
            <a:ext cx="943200" cy="255600"/>
          </a:xfrm>
          <a:prstGeom prst="wedgeEllipseCallout">
            <a:avLst>
              <a:gd name="adj1" fmla="val -20203"/>
              <a:gd name="adj2" fmla="val 3881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3800" y="5313240"/>
            <a:ext cx="785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数设置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自定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名称，此处设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Node Na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由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本机，因此不必输入节点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通过下拉式菜单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.TwinCATOpcServe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O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路径，此处为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.M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文件定义的设备名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发布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所在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Us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称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CBFF6-D788-4D4C-8574-A3E9B80DFAD3}" type="slidenum">
              <a:t>3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2480" y="1262160"/>
            <a:ext cx="68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新建一个项目命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程环境，点击左侧资源窗口中“配置“下的“访问名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63600" y="1913040"/>
            <a:ext cx="5953320" cy="4743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57520" y="5033880"/>
            <a:ext cx="728640" cy="349200"/>
          </a:xfrm>
          <a:prstGeom prst="wedgeEllipseCallout">
            <a:avLst>
              <a:gd name="adj1" fmla="val -11439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D1A40-390E-4FF2-927D-1FB7A6DBFD1A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在访问名窗口中点击“添加“按钮，增加一个访问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46440" y="2341440"/>
            <a:ext cx="4173480" cy="23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BD8AC-4654-4B8D-A717-69EFA27E0F3F}" type="slidenum">
              <a:t>5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在添加访问名窗口设置参数。设置完毕点击“确定“按钮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57280" y="5478480"/>
            <a:ext cx="644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数设置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访问名：自定义，此处设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节点名：由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本机，因此不必输入节点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应用程序名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题名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即在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Link Topic Definition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窗口定义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称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93720" y="1649520"/>
            <a:ext cx="5145120" cy="37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08514-384B-4C14-B5A8-531E8517D4D1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、点击左侧资源窗口中的“标记名字典“。新建变量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设置完毕点击“保存“按钮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01600" y="1876320"/>
            <a:ext cx="6842160" cy="3413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35080" y="274320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90760" y="4699080"/>
            <a:ext cx="863640" cy="349200"/>
          </a:xfrm>
          <a:prstGeom prst="wedgeEllipseCallout">
            <a:avLst>
              <a:gd name="adj1" fmla="val -17462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35080" y="49658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24320" y="3022560"/>
            <a:ext cx="782640" cy="349200"/>
          </a:xfrm>
          <a:prstGeom prst="wedgeEllipseCallout">
            <a:avLst>
              <a:gd name="adj1" fmla="val -1409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1000" y="2717640"/>
            <a:ext cx="716040" cy="349560"/>
          </a:xfrm>
          <a:prstGeom prst="wedgeEllipseCallout">
            <a:avLst>
              <a:gd name="adj1" fmla="val -10754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03480" y="5288040"/>
            <a:ext cx="6710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定义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标记名：自定义，此处定义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类型：设置变量的类型，由于要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连接，故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整型，选中读写单选项是为了可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访问名：选择定义的访问名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项目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因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整型，所以加前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8213C-2EC6-4C4B-B736-79AF6466F63D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、变量定义说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73000" y="3720960"/>
            <a:ext cx="318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定义中的“项目”说明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尔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数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符串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67080" y="2239920"/>
            <a:ext cx="4229280" cy="2914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55720" y="1893960"/>
            <a:ext cx="4046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定义中的“类型”说明，对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尔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离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数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符串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消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A6C0-BE4B-4E46-B1F0-1B05F96C04E3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、点击左侧资源窗口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“，添加新窗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在窗体上添加一个文本，打开其动画链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39960" y="1989000"/>
            <a:ext cx="5392800" cy="439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7304E-9E24-41D6-8046-49840845A36E}" type="slidenum">
              <a:t>9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12-31T02:26:40Z</dcterms:modified>
  <cp:revision>377</cp:revision>
  <dc:subject/>
  <dc:title>Kein Folientitel</dc:title>
</cp:coreProperties>
</file>