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85689-3872-4EEC-B351-9BED4CC02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C87B9-7ED5-42E7-9E2E-7FEE6033C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1513F-1972-4FF9-B95F-358F3050D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91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1908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3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91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1908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3D5F5-3ACD-47CA-BA7B-63083D8804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571C7-D971-4AF6-92B3-98F9AF4465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C9D21-B3B9-45C9-96F4-F28A4F813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21B21-25AC-4621-ACC3-1546B58F7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5D72B-53BF-46F4-9E5F-BB3ACD010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3440" y="655560"/>
            <a:ext cx="77724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820EB-9E9F-4BF3-B7AB-5A51923BC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1C5A4-94A8-44F7-8BA7-72D633816F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6ECEC-DF00-45A2-8171-B6CBB2724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CB5AA-78CB-4EA0-9184-AAC566FDA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7480" y="6543720"/>
            <a:ext cx="437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73A8-CE42-4B9B-8B96-B8B15DB587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9840" y="334800"/>
            <a:ext cx="1055520" cy="21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2600" y="136440"/>
            <a:ext cx="5402520" cy="395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7621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5769000" y="76320"/>
            <a:ext cx="322272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52480" y="1262160"/>
            <a:ext cx="74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开始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有程序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Syst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OPC Test Cli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khoff OPC Cli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7280" y="1995480"/>
            <a:ext cx="8029440" cy="44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F29C2-5BC4-4010-860F-24C0608F511D}" type="slidenum">
              <a:t>1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2480" y="1262160"/>
            <a:ext cx="74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、点击菜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Log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登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23920" y="1857240"/>
            <a:ext cx="6759720" cy="4160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55920" y="334008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311A7-C0A7-48F7-AB72-7E5A539BCD95}" type="slidenum">
              <a:t>2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2480" y="1262160"/>
            <a:ext cx="76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点击工具栏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erver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在弹出的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Propertie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选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khoff.TwinCATOpcServerDA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点击“确定”按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35000" y="1895400"/>
            <a:ext cx="6923160" cy="4832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84240" y="252720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6680" y="3241800"/>
            <a:ext cx="392040" cy="349200"/>
          </a:xfrm>
          <a:prstGeom prst="wedgeEllipseCallout">
            <a:avLst>
              <a:gd name="adj1" fmla="val 69435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7080" y="4816440"/>
            <a:ext cx="392040" cy="349200"/>
          </a:xfrm>
          <a:prstGeom prst="wedgeEllipseCallout">
            <a:avLst>
              <a:gd name="adj1" fmla="val 69435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15120" y="5695920"/>
            <a:ext cx="404640" cy="349200"/>
          </a:xfrm>
          <a:prstGeom prst="wedgeEllipseCallout">
            <a:avLst>
              <a:gd name="adj1" fmla="val -67648"/>
              <a:gd name="adj2" fmla="val 161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00440" y="4102200"/>
            <a:ext cx="2517840" cy="349200"/>
          </a:xfrm>
          <a:prstGeom prst="wedgeEllipseCallout">
            <a:avLst>
              <a:gd name="adj1" fmla="val -3883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25327-8F5A-4A08-900F-CC524EB8C23B}" type="slidenum">
              <a:t>3</a:t>
            </a:fld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52480" y="1262160"/>
            <a:ext cx="752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、点击工具栏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Group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弹出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Propertie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，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自定一个名字，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点击“确定”按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2089080"/>
            <a:ext cx="7311960" cy="4265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01640" y="3203640"/>
            <a:ext cx="392400" cy="349200"/>
          </a:xfrm>
          <a:prstGeom prst="wedgeEllipseCallout">
            <a:avLst>
              <a:gd name="adj1" fmla="val 90078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6080" y="3952800"/>
            <a:ext cx="392040" cy="349200"/>
          </a:xfrm>
          <a:prstGeom prst="wedgeEllipseCallout">
            <a:avLst>
              <a:gd name="adj1" fmla="val -143115"/>
              <a:gd name="adj2" fmla="val -150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11920" y="5442120"/>
            <a:ext cx="392040" cy="349200"/>
          </a:xfrm>
          <a:prstGeom prst="wedgeEllipseCallout">
            <a:avLst>
              <a:gd name="adj1" fmla="val -71458"/>
              <a:gd name="adj2" fmla="val 161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5880" y="2616120"/>
            <a:ext cx="419040" cy="349200"/>
          </a:xfrm>
          <a:prstGeom prst="wedgeEllipseCallout">
            <a:avLst>
              <a:gd name="adj1" fmla="val -15152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46360" y="3429000"/>
            <a:ext cx="1790640" cy="349200"/>
          </a:xfrm>
          <a:prstGeom prst="wedgeEllipseCallout">
            <a:avLst>
              <a:gd name="adj1" fmla="val -34310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6D0C1-FF3B-4C08-A5CC-58081761FEA7}" type="slidenum">
              <a:t>4</a:t>
            </a:fld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52480" y="1262160"/>
            <a:ext cx="77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、点击工具栏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Ite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弹出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Item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，先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khoff.TwinCATOpcServerD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在右侧窗口中双击各个变量，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，点击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08120" y="2168640"/>
            <a:ext cx="7762680" cy="4533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846440" y="267984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5440" y="4452840"/>
            <a:ext cx="2220840" cy="1020960"/>
          </a:xfrm>
          <a:prstGeom prst="wedgeEllipseCallout">
            <a:avLst>
              <a:gd name="adj1" fmla="val -18620"/>
              <a:gd name="adj2" fmla="val -4486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41880" y="4527720"/>
            <a:ext cx="1333440" cy="1276200"/>
          </a:xfrm>
          <a:prstGeom prst="wedgeEllipseCallout">
            <a:avLst>
              <a:gd name="adj1" fmla="val 2263"/>
              <a:gd name="adj2" fmla="val -2587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3381480"/>
            <a:ext cx="379440" cy="349200"/>
          </a:xfrm>
          <a:prstGeom prst="wedgeEllipseCallout">
            <a:avLst>
              <a:gd name="adj1" fmla="val 70083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2320" y="5286240"/>
            <a:ext cx="392400" cy="349560"/>
          </a:xfrm>
          <a:prstGeom prst="wedgeEllipseCallout">
            <a:avLst>
              <a:gd name="adj1" fmla="val 165791"/>
              <a:gd name="adj2" fmla="val -1345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10480" y="5564160"/>
            <a:ext cx="406440" cy="349200"/>
          </a:xfrm>
          <a:prstGeom prst="wedgeEllipseCallout">
            <a:avLst>
              <a:gd name="adj1" fmla="val -132814"/>
              <a:gd name="adj2" fmla="val -1695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13480" y="3355920"/>
            <a:ext cx="406440" cy="349200"/>
          </a:xfrm>
          <a:prstGeom prst="wedgeEllipseCallout">
            <a:avLst>
              <a:gd name="adj1" fmla="val 59763"/>
              <a:gd name="adj2" fmla="val -227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1D8DF-ADD6-4CF1-BB04-F880070D26AD}" type="slidenum">
              <a:t>5</a:t>
            </a:fld>
          </a:p>
        </p:txBody>
      </p:sp>
    </p:spTree>
  </p:cSld>
  <p:transition spd="med"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52480" y="1262160"/>
            <a:ext cx="74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、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读取的变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71480" y="1852560"/>
            <a:ext cx="7601040" cy="456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0A690-0E2C-4342-AC61-3ACD8EAF560C}" type="slidenum">
              <a:t>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2660760"/>
            <a:ext cx="4334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9e0"/>
                </a:solidFill>
                <a:latin typeface="Arial"/>
              </a:rPr>
              <a:t>THAN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646D5-3B75-42CB-9B33-47002B387220}" type="slidenum">
              <a:t>7</a:t>
            </a:fld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3T11:36:04Z</dcterms:created>
  <dc:creator>Dokumentation</dc:creator>
  <dc:description/>
  <dc:language>en-US</dc:language>
  <cp:lastModifiedBy>wyz</cp:lastModifiedBy>
  <cp:lastPrinted>2000-02-15T10:00:28Z</cp:lastPrinted>
  <dcterms:modified xsi:type="dcterms:W3CDTF">2005-09-08T02:33:57Z</dcterms:modified>
  <cp:revision>385</cp:revision>
  <dc:subject/>
  <dc:title>Kein Folientitel</dc:title>
</cp:coreProperties>
</file>