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D3F18-B029-47B9-A262-20205709EF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3440" y="3721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E2110-A485-4910-B9E4-73C4DC985D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14612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3FA63-F299-42D8-916C-5F72C24A11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79144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41908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344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79144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41908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A1A1B-D5CB-48AB-AB6E-A3E1750223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7C4F4-E340-4A00-8E92-B2FA47D46C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E5249-13BF-4F51-84D0-8C898C5350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DBBFB-D486-4918-845E-0A3F6FEA56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F8B49-D604-4866-A2E3-EC9224D9C5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63440" y="655560"/>
            <a:ext cx="777240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B5765-4454-4837-9705-7B51EAD989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D9852-D5CD-424C-A38F-6424D5BA43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4612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6676E-D9A3-4F70-A8D5-903F344DC3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7D0CF-5748-45DF-96F3-109E809FDF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77480" y="6543720"/>
            <a:ext cx="437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A49F-3936-4D31-AD4A-5CDAAC3307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9840" y="334800"/>
            <a:ext cx="1055520" cy="21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12600" y="136440"/>
            <a:ext cx="5402520" cy="395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04920" y="7621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5769000" y="76320"/>
            <a:ext cx="3222720" cy="50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PC&#35828;&#26126;&#20070;.pdf" TargetMode="External"/><Relationship Id="rId2" Type="http://schemas.openxmlformats.org/officeDocument/2006/relationships/hyperlink" Target="file:///OPC&#35828;&#26126;&#20070;.pdf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79640" y="2181240"/>
            <a:ext cx="708660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LE FOR PROCESS CONTRO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作为一种标准的通讯协议，被广大客户接受，并采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KHOF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公司本着开放的通讯理念，同样提供可作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设备通讯方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005600" y="1573200"/>
            <a:ext cx="1184400" cy="405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80808"/>
                </a:solidFill>
                <a:uFillTx/>
                <a:latin typeface="Arial"/>
                <a:hlinkClick r:id="rId1"/>
              </a:rPr>
              <a:t>OPC</a:t>
            </a:r>
            <a:r>
              <a:rPr b="0" lang="zh-CN" sz="1800" spc="-1" strike="noStrike" u="sng">
                <a:solidFill>
                  <a:srgbClr val="080808"/>
                </a:solidFill>
                <a:uFillTx/>
                <a:latin typeface="Arial"/>
                <a:hlinkClick r:id="rId2"/>
              </a:rPr>
              <a:t>文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82267-4B20-4B28-A096-3CDC95068E04}" type="slidenum">
              <a:t>1</a:t>
            </a:fld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52480" y="126216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九、选中需要发布的变量，窗口下面的五个选项全部打实勾。然后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按钮退出该窗体，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中也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按钮退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体。重新点击菜单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Rebuild Al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然后重新保存程序。这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:\Intou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产生一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类型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OP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件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49480" y="2482920"/>
            <a:ext cx="4986360" cy="4241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86200" y="5246640"/>
            <a:ext cx="1360440" cy="920880"/>
          </a:xfrm>
          <a:prstGeom prst="wedgeRoundRectCallout">
            <a:avLst>
              <a:gd name="adj1" fmla="val -159453"/>
              <a:gd name="adj2" fmla="val 3965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五个选项全部选中，注意全部打实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00240" y="5810400"/>
            <a:ext cx="309600" cy="930240"/>
          </a:xfrm>
          <a:prstGeom prst="wedgeEllipseCallout">
            <a:avLst>
              <a:gd name="adj1" fmla="val 12050"/>
              <a:gd name="adj2" fmla="val 18773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3657600"/>
            <a:ext cx="1952640" cy="1079640"/>
          </a:xfrm>
          <a:prstGeom prst="wedgeRoundRectCallout">
            <a:avLst>
              <a:gd name="adj1" fmla="val -75365"/>
              <a:gd name="adj2" fmla="val -5956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全部选中则发布所有变量。若只发布全局变量，则只需选中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Global Vari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47B40-7685-43FC-BAC2-0536DFE901D7}" type="slidenum">
              <a:t>10</a:t>
            </a:fld>
          </a:p>
        </p:txBody>
      </p:sp>
    </p:spTree>
  </p:cSld>
  <p:transition spd="med"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52480" y="12621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、点击菜单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Choose Run-Time Syste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46200" y="1693800"/>
            <a:ext cx="5924520" cy="500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4DEE1-0698-4F53-B867-E62C1C301E9D}" type="slidenum">
              <a:t>11</a:t>
            </a:fld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52480" y="12621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一、选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运行的系统，这里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-Time 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 801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646280" y="2104920"/>
            <a:ext cx="5025960" cy="316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E2D8F-F8B5-42FF-A406-A9077EBCE3EF}" type="slidenum">
              <a:t>12</a:t>
            </a:fld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2480" y="12621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二、先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登录，然后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运行起来，这时可看到右下角的绿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志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39800" y="1855800"/>
            <a:ext cx="7724880" cy="4973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136520" y="3157560"/>
            <a:ext cx="1011240" cy="652320"/>
          </a:xfrm>
          <a:prstGeom prst="wedgeRoundRectCallout">
            <a:avLst>
              <a:gd name="adj1" fmla="val 4629"/>
              <a:gd name="adj2" fmla="val -16459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点击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Run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图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25880" y="3100320"/>
            <a:ext cx="1119240" cy="733320"/>
          </a:xfrm>
          <a:prstGeom prst="wedgeRoundRectCallout">
            <a:avLst>
              <a:gd name="adj1" fmla="val -186597"/>
              <a:gd name="adj2" fmla="val -14653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点击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Login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图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88400" y="6442200"/>
            <a:ext cx="538200" cy="403200"/>
          </a:xfrm>
          <a:prstGeom prst="wedgeEllipseCallout">
            <a:avLst>
              <a:gd name="adj1" fmla="val -29648"/>
              <a:gd name="adj2" fmla="val 36615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29518-69C2-40A3-AE07-4A501156E804}" type="slidenum">
              <a:t>13</a:t>
            </a:fld>
          </a:p>
        </p:txBody>
      </p:sp>
    </p:spTree>
  </p:cSld>
  <p:transition spd="med">
    <p:zoom dir="ou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7280" y="1262160"/>
            <a:ext cx="809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三、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安装目录下的文件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:\TwinCAT\OPC\Server4\Sampl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将文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OpcSvrCf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拷贝一份到自定的文件夹中，例如放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所在的路径下，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:\Intou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。由于需要修改此文件，拷贝一份去修改以保持模板不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03440" y="2376360"/>
            <a:ext cx="5767200" cy="3819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371840" y="4079880"/>
            <a:ext cx="1103400" cy="361800"/>
          </a:xfrm>
          <a:prstGeom prst="wedgeEllipseCallout">
            <a:avLst>
              <a:gd name="adj1" fmla="val -1078"/>
              <a:gd name="adj2" fmla="val -6138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B407B-976C-4FA1-B0CD-4DF6F3ED663E}" type="slidenum">
              <a:t>14</a:t>
            </a:fld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7280" y="1262160"/>
            <a:ext cx="80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四、以记事本方式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:\Intou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OpcSvrCf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件，修改此文件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57360" y="1609560"/>
            <a:ext cx="7829280" cy="5153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1046160" y="4468680"/>
            <a:ext cx="6505560" cy="1729080"/>
          </a:xfrm>
          <a:prstGeom prst="wedgeRoundRectCallout">
            <a:avLst>
              <a:gd name="adj1" fmla="val -29356"/>
              <a:gd name="adj2" fmla="val 39347"/>
              <a:gd name="adj3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95920" y="4513320"/>
            <a:ext cx="1522440" cy="1015920"/>
          </a:xfrm>
          <a:prstGeom prst="wedgeRoundRectCallout">
            <a:avLst>
              <a:gd name="adj1" fmla="val -48851"/>
              <a:gd name="adj2" fmla="val 2218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由于只发布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Run-Time 1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的变量，所以这部分删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1560" y="2894040"/>
            <a:ext cx="7043760" cy="1500120"/>
          </a:xfrm>
          <a:prstGeom prst="wedgeRoundRectCallout">
            <a:avLst>
              <a:gd name="adj1" fmla="val -29805"/>
              <a:gd name="adj2" fmla="val 50212"/>
              <a:gd name="adj3" fmla="val 16667"/>
            </a:avLst>
          </a:prstGeom>
          <a:noFill/>
          <a:ln w="9360">
            <a:solidFill>
              <a:srgbClr val="0b38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54640" y="2989440"/>
            <a:ext cx="1144440" cy="639720"/>
          </a:xfrm>
          <a:prstGeom prst="wedgeRoundRectCallout">
            <a:avLst>
              <a:gd name="adj1" fmla="val -29611"/>
              <a:gd name="adj2" fmla="val 41564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对这部分进行修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BE1AC-1C74-4E29-B81E-D3F740EF8C87}" type="slidenum">
              <a:t>15</a:t>
            </a:fld>
          </a:p>
        </p:txBody>
      </p:sp>
    </p:spTree>
  </p:cSld>
  <p:transition spd="med">
    <p:zoom dir="ou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7280" y="1262160"/>
            <a:ext cx="80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五、修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OpcSvrCf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件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9200" y="1822320"/>
            <a:ext cx="87948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evi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Name&gt;Plc1&lt;/Na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escription&gt;Plc Runtime system 1&lt;/Descrip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AdsNetId&gt;0.0.0.0.0.0&lt;/AdsNetI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AdsPort&gt;801&lt;/AdsPor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!--AutoCfg = 1: Check "AutoCfgSymFile" and parse Symbol-File of PLC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AutoCfg&gt;1&lt;/AutoCfg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AutoCfgSymFile&gt;C:\TcOpcDemo\Versions\4.0.0.1\SampleLocal\opctest.sym &lt;/AutoCfgSymFil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Devi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92960" y="4081320"/>
            <a:ext cx="5989320" cy="23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修改内容说明如下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可自定设备名，例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，也可使用确省的名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对设备的注释，不必修改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sNetId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填写设备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ID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，本机可使用确省的设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0.0.0.0.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sPor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设备的端口号。不同设备的端口号不同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-Time 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的端口号是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Cfg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对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机，此处填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设备不同此处添加的内容不同，对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900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则是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CfgSymFil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要发布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程序的路径以及名称，此处填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:\Intouch\plcOPC.sym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3600" y="1816200"/>
            <a:ext cx="8377200" cy="203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6200" y="4000680"/>
            <a:ext cx="8377200" cy="21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808D9-1B1D-40D6-82F2-BC5C82B86AB8}" type="slidenum">
              <a:t>16</a:t>
            </a:fld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7280" y="1262160"/>
            <a:ext cx="80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六、修改后要保存文件，修改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OpcSvrCf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件如下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874800" y="1930320"/>
            <a:ext cx="7350120" cy="439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44D05-ECFE-4F00-9A85-5C12A4BF7E83}" type="slidenum">
              <a:t>17</a:t>
            </a:fld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7280" y="1262160"/>
            <a:ext cx="801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七、开始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有程序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TwinCAT Syste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TwinCAT OP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TwinCAT OPC Configurat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 OPC Configurat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体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14440" y="1928880"/>
            <a:ext cx="811512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14B70-F1E5-4712-B1AC-56FC8DF57B3C}" type="slidenum">
              <a:t>18</a:t>
            </a:fld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7280" y="1262160"/>
            <a:ext cx="80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八、点击左侧工具栏中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，选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:\Intou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修改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OpcSvrCf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件，打开即可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380960" y="2027160"/>
            <a:ext cx="7148520" cy="44895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758960" y="4395960"/>
            <a:ext cx="1011240" cy="652320"/>
          </a:xfrm>
          <a:prstGeom prst="wedgeRoundRectCallout">
            <a:avLst>
              <a:gd name="adj1" fmla="val -75115"/>
              <a:gd name="adj2" fmla="val -12153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点击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OPC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图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79760" y="4140360"/>
            <a:ext cx="1374840" cy="855360"/>
          </a:xfrm>
          <a:prstGeom prst="wedgeRoundRectCallout">
            <a:avLst>
              <a:gd name="adj1" fmla="val -74365"/>
              <a:gd name="adj2" fmla="val 1196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选中修改的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cOpcSvrCfg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文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40320" y="4138560"/>
            <a:ext cx="1011240" cy="652680"/>
          </a:xfrm>
          <a:prstGeom prst="wedgeRoundRectCallout">
            <a:avLst>
              <a:gd name="adj1" fmla="val 57694"/>
              <a:gd name="adj2" fmla="val 15073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点击打开按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14046-A352-4F6A-99BD-F029AD6402EA}" type="slidenum">
              <a:t>19</a:t>
            </a:fld>
          </a:p>
        </p:txBody>
      </p:sp>
    </p:spTree>
  </p:cSld>
  <p:transition spd="med"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46120" y="2008080"/>
            <a:ext cx="6168960" cy="581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995560" y="2930400"/>
            <a:ext cx="2359080" cy="3551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52480" y="1262160"/>
            <a:ext cx="659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、点击桌面右下角工具栏中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，在弹出的菜单中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Manag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 System Manag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99400" y="2770200"/>
            <a:ext cx="414360" cy="365040"/>
          </a:xfrm>
          <a:prstGeom prst="wedgeEllipseCallout">
            <a:avLst>
              <a:gd name="adj1" fmla="val -151148"/>
              <a:gd name="adj2" fmla="val -15434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05440" y="4114800"/>
            <a:ext cx="430200" cy="392040"/>
          </a:xfrm>
          <a:prstGeom prst="wedgeEllipseCallout">
            <a:avLst>
              <a:gd name="adj1" fmla="val -259592"/>
              <a:gd name="adj2" fmla="val -130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1AEE7-8B4F-4231-9C6A-A5F3E8582737}" type="slidenum">
              <a:t>2</a:t>
            </a:fld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7280" y="1262160"/>
            <a:ext cx="8010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九、弹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ation successfully activate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信息窗口，点击确定。至此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配置发布完毕。现在可以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 Test Clien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ou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进行测试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186000" y="2847960"/>
            <a:ext cx="2772000" cy="116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FA478-7754-431C-82EE-3DA20A18CD66}" type="slidenum">
              <a:t>20</a:t>
            </a:fld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449440" y="2660760"/>
            <a:ext cx="434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89e0"/>
                </a:solidFill>
                <a:latin typeface="Arial"/>
              </a:rPr>
              <a:t>THANK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22A68-D9BE-4F00-BDB2-43308ECBC80F}" type="slidenum">
              <a:t>21</a:t>
            </a:fld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06800" y="5513400"/>
            <a:ext cx="794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55680" y="1824120"/>
            <a:ext cx="8426520" cy="452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flipV="1">
            <a:off x="5073480" y="2769480"/>
            <a:ext cx="760680" cy="560520"/>
          </a:xfrm>
          <a:prstGeom prst="wedgeRoundRectCallout">
            <a:avLst>
              <a:gd name="adj1" fmla="val -117018"/>
              <a:gd name="adj2" fmla="val 7974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激活配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0200" y="1276200"/>
            <a:ext cx="82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二、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 System Manag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工具栏中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ate configura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B1B63-FE82-47F6-A1BA-F4B6BF937F69}" type="slidenum">
              <a:t>3</a:t>
            </a:fld>
          </a:p>
        </p:txBody>
      </p:sp>
    </p:spTree>
  </p:cSld>
  <p:transition spd="med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06800" y="5513400"/>
            <a:ext cx="794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05240" y="1751040"/>
            <a:ext cx="3687480" cy="1184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1000" y="1305000"/>
            <a:ext cx="84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、在弹出的窗体上点击确定，则可看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Manag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体右下角出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166760" y="3049560"/>
            <a:ext cx="6458040" cy="3556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745320" y="6283440"/>
            <a:ext cx="772920" cy="403200"/>
          </a:xfrm>
          <a:prstGeom prst="wedgeEllipseCallout">
            <a:avLst>
              <a:gd name="adj1" fmla="val -35833"/>
              <a:gd name="adj2" fmla="val 36615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1B522-C2EB-44CE-8257-560F1B8394B8}" type="slidenum">
              <a:t>4</a:t>
            </a:fld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4880" y="1903320"/>
            <a:ext cx="2109600" cy="3259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52480" y="1262160"/>
            <a:ext cx="7769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四、再次点击工具栏中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，在弹出的菜单中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02080" y="2970360"/>
            <a:ext cx="1587600" cy="757080"/>
          </a:xfrm>
          <a:prstGeom prst="wedgeRoundRectCallout">
            <a:avLst>
              <a:gd name="adj1" fmla="val -72601"/>
              <a:gd name="adj2" fmla="val -5272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打开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winCAT PLC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26CB5-D3F6-45CF-8E01-7F05329FF13D}" type="slidenum">
              <a:t>5</a:t>
            </a:fld>
          </a:p>
        </p:txBody>
      </p:sp>
    </p:spTree>
  </p:cSld>
  <p:transition spd="med"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52480" y="1736640"/>
            <a:ext cx="7826400" cy="4764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52480" y="1262160"/>
            <a:ext cx="737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五、定义变量，编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F2B07-3A7F-40A2-95FD-79F8CF9290ED}" type="slidenum">
              <a:t>6</a:t>
            </a:fld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52480" y="1262160"/>
            <a:ext cx="73785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六、点击菜单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Rebuild Al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然后保存程序，例如保存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:\Intou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，文件命名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OP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62160" y="1981080"/>
            <a:ext cx="5146560" cy="487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C6323-9894-46D5-BD00-961C63854109}" type="slidenum">
              <a:t>7</a:t>
            </a:fld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52480" y="1262160"/>
            <a:ext cx="737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七、点击菜单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Option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006640" y="1604880"/>
            <a:ext cx="4819680" cy="518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18128-C930-48E8-A0E3-5D3AE16E99FD}" type="slidenum">
              <a:t>8</a:t>
            </a:fld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52480" y="1262160"/>
            <a:ext cx="737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八、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中选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 configura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选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mp symbol entrie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点击按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e symbol file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2400" y="1973160"/>
            <a:ext cx="7153200" cy="4486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967200" y="2830680"/>
            <a:ext cx="739800" cy="649080"/>
          </a:xfrm>
          <a:prstGeom prst="wedgeRoundRectCallout">
            <a:avLst>
              <a:gd name="adj1" fmla="val -125749"/>
              <a:gd name="adj2" fmla="val -5318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打勾选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91040" y="4140360"/>
            <a:ext cx="417600" cy="392040"/>
          </a:xfrm>
          <a:prstGeom prst="wedgeEllipseCallout">
            <a:avLst>
              <a:gd name="adj1" fmla="val -224523"/>
              <a:gd name="adj2" fmla="val -1706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293CE-DBD9-4DC1-84EC-D431ED7DDEC4}" type="slidenum">
              <a:t>9</a:t>
            </a:fld>
          </a:p>
        </p:txBody>
      </p:sp>
    </p:spTree>
  </p:cSld>
  <p:transition spd="med"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3T11:36:04Z</dcterms:created>
  <dc:creator>Dokumentation</dc:creator>
  <dc:description/>
  <dc:language>en-US</dc:language>
  <cp:lastModifiedBy>wyz</cp:lastModifiedBy>
  <cp:lastPrinted>2000-02-15T10:00:28Z</cp:lastPrinted>
  <dcterms:modified xsi:type="dcterms:W3CDTF">2005-12-31T02:30:59Z</dcterms:modified>
  <cp:revision>363</cp:revision>
  <dc:subject/>
  <dc:title>Kein Folientitel</dc:title>
</cp:coreProperties>
</file>